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6372-2F23-4965-A816-0F642D3B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s war 1962 für eine Zeit? - Kalter Krieg, Grundidee: Wie kann ich mein Netz schützen? -dezentrales Netz, ohne einen zentralen Server, paketvermittelnde Verb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ul Baran war von der RAND Corporation. Er schlug das System ohne zentrale Steuerung vor. Ursprungsgedanke: wie das U.S. Militär sein Kommunikationssystem vor ernsten Zerstörungen durch atomare Angriffe schützen kön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xt (siehe Hyperlink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usik (midi file: http://members.aol.com/tobezi/midschl.htm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ei (Präsentation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eraktion (siehe http://www.netbusiness.it/mars/vrml/vrml_it.html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aktisch zeigen: Multimediaanwendung (Midifile), Hyperlink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endipidieffe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TP=file transfer protokoll =&gt;Dienst des Internet, der das Übertragen von Dateien zwischen lokalem und entferntem Rechner ermöglic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ozu? =&gt;Programme, Unterrichtsmaterial oder Bilder austauschen.Riesige Datenbestän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rror-Technik (Datenspiegelung) bietet Softwarepakete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fache Bedienung, kaum Kernbefeh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ugang für jedermann durch Anonymous bei einigen Rechn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zeichnisstruktur nicht immer leicht zu durchschau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e funktioniert das? Client-Server-Beziehung mit bidirektionaler Verbindung, Zugang durch Passwort od. anonym, über FTP-Browser (Netscape) od. FTP-Client (WS_FTP)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satzmöglichkeiten von Email (z.B. Kultusverwaltungsnetz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mail: Analogie: "Gelbe Po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4569120" cy="342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TP: Mit Hilfe des standardisierten Simple Mail Transfer Protocol können Textdateien übertragen werd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blem: Empfängerrechner ist nicht immer onli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ösung: POP (Post Office Protcol): Protokoll, das Herunterladen von E-Mails von einem POP-Server ermöglic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AP: gestattet Organisation und Verwaltung der E-Mails auf dem E-Mail-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chlüsselungsverfahren: (z.B. PGP) weitere Informationen: z.B. unter http://www.heise.de/ct/pgpCA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s: weltweites Diskussionsmedium, schwarzes Brett, Zeitung mit Teilnehmerredakteuren,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mmunikation erfolgt mit NNTP (Network News Transfer Protoco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s Hierarchien: Familien mit verwandten Themen, die hierarchisch strukturiert sind. Z.B. Computer, PC, Windows, Word,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s-Reader: Oberfläche, mit der Artikel gelesen, verfaßt, gespeichert werden könn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sten: Veröffentlichen eines News-Artik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eader: Neben dem eigentlichen Inhalt gibt es Steuerinformationen, die als Header bezeichnet werd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swahl eines Diskussionsfor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rstellung von Nachrichten mit und ohne Threads erklä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69: Grundsteinlegung: Beginn des Internets mit 4 Rechn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PA: Advanced Research Project Agency (Projektgruppe des amerik. Verteidigungsministeriums) später: DARPA (Defense ARP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ster Rechner des ARPANETs am 1.9.69 an der University California in L.A. in Betrieb genommen (12 kb Hauptspeicher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.B. server.alf.es.bw.schule.d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upthierarchien des Usenet (Big 8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, humanities, misc, news, rec, sci, soc,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o chat: plaudern, zeitgleiches Unterhalten über Tastatu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atten im WWW: www.schulweb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Warum ist das Internet so aufregend?"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: Informationsdienst, hoher Bekanntheitsgrad, (vorsicht bei Gleichsetzung mit Internet!!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mail: Kommunikationsdienst (elektron. Post, einer der ersten Dienste im Internet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s: schwarze Brett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at: Telefonieren über Tastatur mit vielen T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TP: Dateiübertra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i Ausfall einzelner Knoten soll Kommunikation aufrecht erhalten werden. Passiert tatsächlich, z.B. wenn Sie gerade über Tastatur kommunizie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81: mehrere versch. Netze noch unabhängig (Europa/USA), Geburtsstunde des TCP/IP-Protocoll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88: über Tastatur kommunizier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91: grafische Oberfläche zur Darstellung von Informatio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94: breite Öffentlichkeit wird auf Internet aufmerk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82: TCP/IP: Transfer Control Protocol/Internet Protocol wird eingeführt, NCP (Network Control Protocol) wird abgelö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88: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C (Internet Relay Chat) wird eingeführt. Benutzer können in Echtzeit miteinander kommunizier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91: WWW ist eine grafische Oberfläche für alle verfügbaren Dienste im Internet. Einzelne Schlüsselwörter sind durch ein System miteinander verkettet.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N: Kernforschungszentrum in Ge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Überlegungen zur Datensicherheit im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94: Die breite Öffentlichkeit wird auf das INTERNET aufmerksam. Präsentation von Firmen; Information von Kun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ste kommerzielle Online-Dien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ue multimediale Techniken (RealAudio - Echtzeit Audio-Übertragungen, Programmiersprache Java der Firma SUN, ..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eut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istiken und Benutzerzahlen (Add-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.B. Ländervertei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ännlich/weib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uktu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m gehört das Internet bzw. wer hat etwas zu sagen? Bsp.: IB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ranskontinental: Wer etwas beisteuert, dem gehört sein Teil. Wenn Telekom Zugang sperrt, so ist dies ihr Recht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atlich / öffentliche Institution: Internick (Standards)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Warum ist das Internet so aufregend?"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: Informationsdienst, hoher Bekanntheitsgrad, (vorsicht bei Gleichsetzung mit Internet!!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mail: Kommunikationsdienst (elektron. Post, einer der ersten Dienste im Internet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s: schwarze Brett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at: Telefonieren über Tastatur mit vielen T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TP: Dateiübertra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WW: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b heißt Netz, im Deutschen „Weben“, berühmtester Dienst oder Anwendung auf dem Internet, manchmal wird er mit dem Internet verwechselt. Hat wie das Internet eine Netzstrukt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teilter Hypertex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 Skizze dazu auf Flipcha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hner auf denen WWW-Seiten im Interbnet zur Verfügung gestellt werden heißen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WWW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590920" y="5105520"/>
            <a:ext cx="3219120" cy="2038320"/>
            <a:chOff x="2590920" y="5105520"/>
            <a:chExt cx="3219120" cy="2038320"/>
          </a:xfrm>
        </p:grpSpPr>
        <p:sp>
          <p:nvSpPr>
            <p:cNvPr id="517" name=""/>
            <p:cNvSpPr/>
            <p:nvPr/>
          </p:nvSpPr>
          <p:spPr>
            <a:xfrm>
              <a:off x="3290400" y="6414480"/>
              <a:ext cx="925560" cy="729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90920" y="5105520"/>
              <a:ext cx="1296000" cy="1112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24480" y="5470200"/>
              <a:ext cx="1285560" cy="1449360"/>
            </a:xfrm>
            <a:custGeom>
              <a:avLst/>
              <a:gdLst>
                <a:gd name="textAreaLeft" fmla="*/ 62640 w 1285560"/>
                <a:gd name="textAreaRight" fmla="*/ 1222920 w 1285560"/>
                <a:gd name="textAreaTop" fmla="*/ 62640 h 1449360"/>
                <a:gd name="textAreaBottom" fmla="*/ 1386720 h 1449360"/>
              </a:gdLst>
              <a:ahLst/>
              <a:rect l="textAreaLeft" t="textAreaTop" r="textAreaRight" b="textAreaBottom"/>
              <a:pathLst>
                <a:path w="21600" h="24351">
                  <a:moveTo>
                    <a:pt x="3600" y="0"/>
                  </a:moveTo>
                  <a:arcTo wR="3600" hR="3600" stAng="16200000" swAng="-5400000"/>
                  <a:lnTo>
                    <a:pt x="0" y="20751"/>
                  </a:lnTo>
                  <a:arcTo wR="3600" hR="3600" stAng="10800000" swAng="-5400000"/>
                  <a:lnTo>
                    <a:pt x="18000" y="243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703960" y="5185440"/>
              <a:ext cx="2962440" cy="1842120"/>
              <a:chOff x="2703960" y="5185440"/>
              <a:chExt cx="2962440" cy="18421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703960" y="5613480"/>
                <a:ext cx="407160" cy="519840"/>
                <a:chOff x="2703960" y="5613480"/>
                <a:chExt cx="407160" cy="5198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703960" y="5613480"/>
                  <a:ext cx="407160" cy="51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83520" y="5689800"/>
                  <a:ext cx="215640" cy="60120"/>
                </a:xfrm>
                <a:custGeom>
                  <a:avLst/>
                  <a:gdLst/>
                  <a:ahLst/>
                  <a:rect l="l" t="t" r="r" b="b"/>
                  <a:pathLst>
                    <a:path w="810" h="237">
                      <a:moveTo>
                        <a:pt x="0" y="120"/>
                      </a:moveTo>
                      <a:cubicBezTo>
                        <a:pt x="30" y="130"/>
                        <a:pt x="58" y="150"/>
                        <a:pt x="90" y="150"/>
                      </a:cubicBezTo>
                      <a:cubicBezTo>
                        <a:pt x="223" y="150"/>
                        <a:pt x="157" y="50"/>
                        <a:pt x="210" y="210"/>
                      </a:cubicBezTo>
                      <a:cubicBezTo>
                        <a:pt x="229" y="197"/>
                        <a:pt x="351" y="104"/>
                        <a:pt x="390" y="120"/>
                      </a:cubicBezTo>
                      <a:cubicBezTo>
                        <a:pt x="423" y="133"/>
                        <a:pt x="430" y="180"/>
                        <a:pt x="450" y="210"/>
                      </a:cubicBezTo>
                      <a:cubicBezTo>
                        <a:pt x="480" y="170"/>
                        <a:pt x="490" y="90"/>
                        <a:pt x="540" y="90"/>
                      </a:cubicBezTo>
                      <a:cubicBezTo>
                        <a:pt x="585" y="90"/>
                        <a:pt x="564" y="237"/>
                        <a:pt x="600" y="210"/>
                      </a:cubicBezTo>
                      <a:cubicBezTo>
                        <a:pt x="658" y="166"/>
                        <a:pt x="640" y="70"/>
                        <a:pt x="660" y="0"/>
                      </a:cubicBezTo>
                      <a:cubicBezTo>
                        <a:pt x="695" y="105"/>
                        <a:pt x="684" y="120"/>
                        <a:pt x="810" y="1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791800" y="5873400"/>
                  <a:ext cx="135720" cy="45720"/>
                </a:xfrm>
                <a:custGeom>
                  <a:avLst/>
                  <a:gdLst/>
                  <a:ahLst/>
                  <a:rect l="l" t="t" r="r" b="b"/>
                  <a:pathLst>
                    <a:path w="510" h="180">
                      <a:moveTo>
                        <a:pt x="0" y="60"/>
                      </a:moveTo>
                      <a:cubicBezTo>
                        <a:pt x="30" y="40"/>
                        <a:pt x="54" y="0"/>
                        <a:pt x="90" y="0"/>
                      </a:cubicBezTo>
                      <a:cubicBezTo>
                        <a:pt x="156" y="0"/>
                        <a:pt x="250" y="153"/>
                        <a:pt x="270" y="180"/>
                      </a:cubicBezTo>
                      <a:cubicBezTo>
                        <a:pt x="386" y="6"/>
                        <a:pt x="264" y="124"/>
                        <a:pt x="420" y="150"/>
                      </a:cubicBezTo>
                      <a:cubicBezTo>
                        <a:pt x="451" y="155"/>
                        <a:pt x="510" y="120"/>
                        <a:pt x="510" y="1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799720" y="5941080"/>
                  <a:ext cx="242280" cy="89280"/>
                </a:xfrm>
                <a:custGeom>
                  <a:avLst/>
                  <a:gdLst/>
                  <a:ahLst/>
                  <a:rect l="l" t="t" r="r" b="b"/>
                  <a:pathLst>
                    <a:path w="910" h="351">
                      <a:moveTo>
                        <a:pt x="0" y="214"/>
                      </a:moveTo>
                      <a:cubicBezTo>
                        <a:pt x="246" y="337"/>
                        <a:pt x="7" y="267"/>
                        <a:pt x="180" y="94"/>
                      </a:cubicBezTo>
                      <a:cubicBezTo>
                        <a:pt x="202" y="72"/>
                        <a:pt x="188" y="162"/>
                        <a:pt x="210" y="184"/>
                      </a:cubicBezTo>
                      <a:cubicBezTo>
                        <a:pt x="242" y="216"/>
                        <a:pt x="290" y="224"/>
                        <a:pt x="330" y="244"/>
                      </a:cubicBezTo>
                      <a:cubicBezTo>
                        <a:pt x="340" y="274"/>
                        <a:pt x="329" y="327"/>
                        <a:pt x="360" y="334"/>
                      </a:cubicBezTo>
                      <a:cubicBezTo>
                        <a:pt x="439" y="351"/>
                        <a:pt x="519" y="304"/>
                        <a:pt x="600" y="304"/>
                      </a:cubicBezTo>
                      <a:cubicBezTo>
                        <a:pt x="632" y="304"/>
                        <a:pt x="660" y="324"/>
                        <a:pt x="690" y="334"/>
                      </a:cubicBezTo>
                      <a:cubicBezTo>
                        <a:pt x="746" y="0"/>
                        <a:pt x="675" y="174"/>
                        <a:pt x="780" y="244"/>
                      </a:cubicBezTo>
                      <a:cubicBezTo>
                        <a:pt x="910" y="330"/>
                        <a:pt x="900" y="220"/>
                        <a:pt x="900" y="30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871720" y="5804640"/>
                  <a:ext cx="183600" cy="30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3518280" y="6507720"/>
                <a:ext cx="40716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98200" y="6584400"/>
                <a:ext cx="215280" cy="60120"/>
              </a:xfrm>
              <a:custGeom>
                <a:avLst/>
                <a:gdLst/>
                <a:ahLst/>
                <a:rect l="l" t="t" r="r" b="b"/>
                <a:pathLst>
                  <a:path w="810" h="237">
                    <a:moveTo>
                      <a:pt x="0" y="120"/>
                    </a:moveTo>
                    <a:cubicBezTo>
                      <a:pt x="30" y="130"/>
                      <a:pt x="58" y="150"/>
                      <a:pt x="90" y="150"/>
                    </a:cubicBezTo>
                    <a:cubicBezTo>
                      <a:pt x="223" y="150"/>
                      <a:pt x="157" y="50"/>
                      <a:pt x="210" y="210"/>
                    </a:cubicBezTo>
                    <a:cubicBezTo>
                      <a:pt x="229" y="197"/>
                      <a:pt x="351" y="104"/>
                      <a:pt x="390" y="120"/>
                    </a:cubicBezTo>
                    <a:cubicBezTo>
                      <a:pt x="423" y="133"/>
                      <a:pt x="430" y="180"/>
                      <a:pt x="450" y="210"/>
                    </a:cubicBezTo>
                    <a:cubicBezTo>
                      <a:pt x="480" y="170"/>
                      <a:pt x="490" y="90"/>
                      <a:pt x="540" y="90"/>
                    </a:cubicBezTo>
                    <a:cubicBezTo>
                      <a:pt x="585" y="90"/>
                      <a:pt x="564" y="237"/>
                      <a:pt x="600" y="210"/>
                    </a:cubicBezTo>
                    <a:cubicBezTo>
                      <a:pt x="658" y="166"/>
                      <a:pt x="640" y="70"/>
                      <a:pt x="660" y="0"/>
                    </a:cubicBezTo>
                    <a:cubicBezTo>
                      <a:pt x="695" y="105"/>
                      <a:pt x="684" y="120"/>
                      <a:pt x="810" y="1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06120" y="6767640"/>
                <a:ext cx="135720" cy="45720"/>
              </a:xfrm>
              <a:custGeom>
                <a:avLst/>
                <a:gdLst/>
                <a:ahLst/>
                <a:rect l="l" t="t" r="r" b="b"/>
                <a:pathLst>
                  <a:path w="510" h="180">
                    <a:moveTo>
                      <a:pt x="0" y="60"/>
                    </a:moveTo>
                    <a:cubicBezTo>
                      <a:pt x="30" y="40"/>
                      <a:pt x="54" y="0"/>
                      <a:pt x="90" y="0"/>
                    </a:cubicBezTo>
                    <a:cubicBezTo>
                      <a:pt x="156" y="0"/>
                      <a:pt x="250" y="153"/>
                      <a:pt x="270" y="180"/>
                    </a:cubicBezTo>
                    <a:cubicBezTo>
                      <a:pt x="386" y="6"/>
                      <a:pt x="264" y="124"/>
                      <a:pt x="420" y="150"/>
                    </a:cubicBezTo>
                    <a:cubicBezTo>
                      <a:pt x="451" y="155"/>
                      <a:pt x="510" y="120"/>
                      <a:pt x="510" y="1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14040" y="6835680"/>
                <a:ext cx="241920" cy="89280"/>
              </a:xfrm>
              <a:custGeom>
                <a:avLst/>
                <a:gdLst/>
                <a:ahLst/>
                <a:rect l="l" t="t" r="r" b="b"/>
                <a:pathLst>
                  <a:path w="910" h="351">
                    <a:moveTo>
                      <a:pt x="0" y="214"/>
                    </a:moveTo>
                    <a:cubicBezTo>
                      <a:pt x="246" y="337"/>
                      <a:pt x="7" y="267"/>
                      <a:pt x="180" y="94"/>
                    </a:cubicBezTo>
                    <a:cubicBezTo>
                      <a:pt x="202" y="72"/>
                      <a:pt x="188" y="162"/>
                      <a:pt x="210" y="184"/>
                    </a:cubicBezTo>
                    <a:cubicBezTo>
                      <a:pt x="242" y="216"/>
                      <a:pt x="290" y="224"/>
                      <a:pt x="330" y="244"/>
                    </a:cubicBezTo>
                    <a:cubicBezTo>
                      <a:pt x="340" y="274"/>
                      <a:pt x="329" y="327"/>
                      <a:pt x="360" y="334"/>
                    </a:cubicBezTo>
                    <a:cubicBezTo>
                      <a:pt x="439" y="351"/>
                      <a:pt x="519" y="304"/>
                      <a:pt x="600" y="304"/>
                    </a:cubicBezTo>
                    <a:cubicBezTo>
                      <a:pt x="632" y="304"/>
                      <a:pt x="660" y="324"/>
                      <a:pt x="690" y="334"/>
                    </a:cubicBezTo>
                    <a:cubicBezTo>
                      <a:pt x="746" y="0"/>
                      <a:pt x="675" y="174"/>
                      <a:pt x="780" y="244"/>
                    </a:cubicBezTo>
                    <a:cubicBezTo>
                      <a:pt x="910" y="330"/>
                      <a:pt x="900" y="220"/>
                      <a:pt x="900" y="3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86040" y="6698880"/>
                <a:ext cx="183600" cy="30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0520" y="5185440"/>
                <a:ext cx="407160" cy="51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430440" y="5261760"/>
                <a:ext cx="215280" cy="60120"/>
              </a:xfrm>
              <a:custGeom>
                <a:avLst/>
                <a:gdLst/>
                <a:ahLst/>
                <a:rect l="l" t="t" r="r" b="b"/>
                <a:pathLst>
                  <a:path w="810" h="237">
                    <a:moveTo>
                      <a:pt x="0" y="120"/>
                    </a:moveTo>
                    <a:cubicBezTo>
                      <a:pt x="30" y="130"/>
                      <a:pt x="58" y="150"/>
                      <a:pt x="90" y="150"/>
                    </a:cubicBezTo>
                    <a:cubicBezTo>
                      <a:pt x="223" y="150"/>
                      <a:pt x="157" y="50"/>
                      <a:pt x="210" y="210"/>
                    </a:cubicBezTo>
                    <a:cubicBezTo>
                      <a:pt x="229" y="197"/>
                      <a:pt x="351" y="104"/>
                      <a:pt x="390" y="120"/>
                    </a:cubicBezTo>
                    <a:cubicBezTo>
                      <a:pt x="423" y="133"/>
                      <a:pt x="430" y="180"/>
                      <a:pt x="450" y="210"/>
                    </a:cubicBezTo>
                    <a:cubicBezTo>
                      <a:pt x="480" y="170"/>
                      <a:pt x="490" y="90"/>
                      <a:pt x="540" y="90"/>
                    </a:cubicBezTo>
                    <a:cubicBezTo>
                      <a:pt x="585" y="90"/>
                      <a:pt x="564" y="237"/>
                      <a:pt x="600" y="210"/>
                    </a:cubicBezTo>
                    <a:cubicBezTo>
                      <a:pt x="658" y="166"/>
                      <a:pt x="640" y="70"/>
                      <a:pt x="660" y="0"/>
                    </a:cubicBezTo>
                    <a:cubicBezTo>
                      <a:pt x="695" y="105"/>
                      <a:pt x="684" y="120"/>
                      <a:pt x="810" y="1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38360" y="5445360"/>
                <a:ext cx="135720" cy="45720"/>
              </a:xfrm>
              <a:custGeom>
                <a:avLst/>
                <a:gdLst/>
                <a:ahLst/>
                <a:rect l="l" t="t" r="r" b="b"/>
                <a:pathLst>
                  <a:path w="510" h="180">
                    <a:moveTo>
                      <a:pt x="0" y="60"/>
                    </a:moveTo>
                    <a:cubicBezTo>
                      <a:pt x="30" y="40"/>
                      <a:pt x="54" y="0"/>
                      <a:pt x="90" y="0"/>
                    </a:cubicBezTo>
                    <a:cubicBezTo>
                      <a:pt x="156" y="0"/>
                      <a:pt x="250" y="153"/>
                      <a:pt x="270" y="180"/>
                    </a:cubicBezTo>
                    <a:cubicBezTo>
                      <a:pt x="386" y="6"/>
                      <a:pt x="264" y="124"/>
                      <a:pt x="420" y="150"/>
                    </a:cubicBezTo>
                    <a:cubicBezTo>
                      <a:pt x="451" y="155"/>
                      <a:pt x="510" y="120"/>
                      <a:pt x="510" y="1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46280" y="5513040"/>
                <a:ext cx="241920" cy="89280"/>
              </a:xfrm>
              <a:custGeom>
                <a:avLst/>
                <a:gdLst/>
                <a:ahLst/>
                <a:rect l="l" t="t" r="r" b="b"/>
                <a:pathLst>
                  <a:path w="910" h="351">
                    <a:moveTo>
                      <a:pt x="0" y="214"/>
                    </a:moveTo>
                    <a:cubicBezTo>
                      <a:pt x="246" y="337"/>
                      <a:pt x="7" y="267"/>
                      <a:pt x="180" y="94"/>
                    </a:cubicBezTo>
                    <a:cubicBezTo>
                      <a:pt x="202" y="72"/>
                      <a:pt x="188" y="162"/>
                      <a:pt x="210" y="184"/>
                    </a:cubicBezTo>
                    <a:cubicBezTo>
                      <a:pt x="242" y="216"/>
                      <a:pt x="290" y="224"/>
                      <a:pt x="330" y="244"/>
                    </a:cubicBezTo>
                    <a:cubicBezTo>
                      <a:pt x="340" y="274"/>
                      <a:pt x="329" y="327"/>
                      <a:pt x="360" y="334"/>
                    </a:cubicBezTo>
                    <a:cubicBezTo>
                      <a:pt x="439" y="351"/>
                      <a:pt x="519" y="304"/>
                      <a:pt x="600" y="304"/>
                    </a:cubicBezTo>
                    <a:cubicBezTo>
                      <a:pt x="632" y="304"/>
                      <a:pt x="660" y="324"/>
                      <a:pt x="690" y="334"/>
                    </a:cubicBezTo>
                    <a:cubicBezTo>
                      <a:pt x="746" y="0"/>
                      <a:pt x="675" y="174"/>
                      <a:pt x="780" y="244"/>
                    </a:cubicBezTo>
                    <a:cubicBezTo>
                      <a:pt x="910" y="330"/>
                      <a:pt x="900" y="220"/>
                      <a:pt x="900" y="3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91440" y="5639760"/>
                <a:ext cx="111600" cy="30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5259240" y="6301440"/>
                <a:ext cx="407160" cy="519840"/>
                <a:chOff x="5259240" y="6301440"/>
                <a:chExt cx="407160" cy="5198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259240" y="6301440"/>
                  <a:ext cx="407160" cy="51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355000" y="6567840"/>
                  <a:ext cx="242280" cy="89280"/>
                </a:xfrm>
                <a:custGeom>
                  <a:avLst/>
                  <a:gdLst/>
                  <a:ahLst/>
                  <a:rect l="l" t="t" r="r" b="b"/>
                  <a:pathLst>
                    <a:path w="910" h="351">
                      <a:moveTo>
                        <a:pt x="0" y="214"/>
                      </a:moveTo>
                      <a:cubicBezTo>
                        <a:pt x="246" y="337"/>
                        <a:pt x="7" y="267"/>
                        <a:pt x="180" y="94"/>
                      </a:cubicBezTo>
                      <a:cubicBezTo>
                        <a:pt x="202" y="72"/>
                        <a:pt x="188" y="162"/>
                        <a:pt x="210" y="184"/>
                      </a:cubicBezTo>
                      <a:cubicBezTo>
                        <a:pt x="242" y="216"/>
                        <a:pt x="290" y="224"/>
                        <a:pt x="330" y="244"/>
                      </a:cubicBezTo>
                      <a:cubicBezTo>
                        <a:pt x="340" y="274"/>
                        <a:pt x="329" y="327"/>
                        <a:pt x="360" y="334"/>
                      </a:cubicBezTo>
                      <a:cubicBezTo>
                        <a:pt x="439" y="351"/>
                        <a:pt x="519" y="304"/>
                        <a:pt x="600" y="304"/>
                      </a:cubicBezTo>
                      <a:cubicBezTo>
                        <a:pt x="632" y="304"/>
                        <a:pt x="660" y="324"/>
                        <a:pt x="690" y="334"/>
                      </a:cubicBezTo>
                      <a:cubicBezTo>
                        <a:pt x="746" y="0"/>
                        <a:pt x="675" y="174"/>
                        <a:pt x="780" y="244"/>
                      </a:cubicBezTo>
                      <a:cubicBezTo>
                        <a:pt x="910" y="330"/>
                        <a:pt x="900" y="220"/>
                        <a:pt x="900" y="30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70840" y="6744960"/>
                  <a:ext cx="183600" cy="30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378760" y="6381000"/>
                  <a:ext cx="167760" cy="168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5418720" y="6427080"/>
                  <a:ext cx="103320" cy="38160"/>
                  <a:chOff x="5418720" y="6427080"/>
                  <a:chExt cx="103320" cy="381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5418720" y="6427080"/>
                    <a:ext cx="32040" cy="38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5490360" y="6427080"/>
                    <a:ext cx="31680" cy="38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5" name=""/>
                <p:cNvSpPr/>
                <p:nvPr/>
              </p:nvSpPr>
              <p:spPr>
                <a:xfrm>
                  <a:off x="5434920" y="6503400"/>
                  <a:ext cx="6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98840" y="6350400"/>
                  <a:ext cx="63720" cy="60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4644360" y="5529240"/>
                <a:ext cx="407160" cy="519840"/>
                <a:chOff x="4644360" y="5529240"/>
                <a:chExt cx="407160" cy="5198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4644360" y="5529240"/>
                  <a:ext cx="407160" cy="51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723920" y="5605560"/>
                  <a:ext cx="215640" cy="60120"/>
                </a:xfrm>
                <a:custGeom>
                  <a:avLst/>
                  <a:gdLst/>
                  <a:ahLst/>
                  <a:rect l="l" t="t" r="r" b="b"/>
                  <a:pathLst>
                    <a:path w="810" h="237">
                      <a:moveTo>
                        <a:pt x="0" y="120"/>
                      </a:moveTo>
                      <a:cubicBezTo>
                        <a:pt x="30" y="130"/>
                        <a:pt x="58" y="150"/>
                        <a:pt x="90" y="150"/>
                      </a:cubicBezTo>
                      <a:cubicBezTo>
                        <a:pt x="223" y="150"/>
                        <a:pt x="157" y="50"/>
                        <a:pt x="210" y="210"/>
                      </a:cubicBezTo>
                      <a:cubicBezTo>
                        <a:pt x="229" y="197"/>
                        <a:pt x="351" y="104"/>
                        <a:pt x="390" y="120"/>
                      </a:cubicBezTo>
                      <a:cubicBezTo>
                        <a:pt x="423" y="133"/>
                        <a:pt x="430" y="180"/>
                        <a:pt x="450" y="210"/>
                      </a:cubicBezTo>
                      <a:cubicBezTo>
                        <a:pt x="480" y="170"/>
                        <a:pt x="490" y="90"/>
                        <a:pt x="540" y="90"/>
                      </a:cubicBezTo>
                      <a:cubicBezTo>
                        <a:pt x="585" y="90"/>
                        <a:pt x="564" y="237"/>
                        <a:pt x="600" y="210"/>
                      </a:cubicBezTo>
                      <a:cubicBezTo>
                        <a:pt x="658" y="166"/>
                        <a:pt x="640" y="70"/>
                        <a:pt x="660" y="0"/>
                      </a:cubicBezTo>
                      <a:cubicBezTo>
                        <a:pt x="695" y="105"/>
                        <a:pt x="684" y="120"/>
                        <a:pt x="810" y="1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32200" y="5789160"/>
                  <a:ext cx="135720" cy="45720"/>
                </a:xfrm>
                <a:custGeom>
                  <a:avLst/>
                  <a:gdLst/>
                  <a:ahLst/>
                  <a:rect l="l" t="t" r="r" b="b"/>
                  <a:pathLst>
                    <a:path w="510" h="180">
                      <a:moveTo>
                        <a:pt x="0" y="60"/>
                      </a:moveTo>
                      <a:cubicBezTo>
                        <a:pt x="30" y="40"/>
                        <a:pt x="54" y="0"/>
                        <a:pt x="90" y="0"/>
                      </a:cubicBezTo>
                      <a:cubicBezTo>
                        <a:pt x="156" y="0"/>
                        <a:pt x="250" y="153"/>
                        <a:pt x="270" y="180"/>
                      </a:cubicBezTo>
                      <a:cubicBezTo>
                        <a:pt x="386" y="6"/>
                        <a:pt x="264" y="124"/>
                        <a:pt x="420" y="150"/>
                      </a:cubicBezTo>
                      <a:cubicBezTo>
                        <a:pt x="451" y="155"/>
                        <a:pt x="510" y="120"/>
                        <a:pt x="510" y="1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740120" y="5834160"/>
                  <a:ext cx="242280" cy="89280"/>
                </a:xfrm>
                <a:custGeom>
                  <a:avLst/>
                  <a:gdLst/>
                  <a:ahLst/>
                  <a:rect l="l" t="t" r="r" b="b"/>
                  <a:pathLst>
                    <a:path w="910" h="351">
                      <a:moveTo>
                        <a:pt x="0" y="214"/>
                      </a:moveTo>
                      <a:cubicBezTo>
                        <a:pt x="246" y="337"/>
                        <a:pt x="7" y="267"/>
                        <a:pt x="180" y="94"/>
                      </a:cubicBezTo>
                      <a:cubicBezTo>
                        <a:pt x="202" y="72"/>
                        <a:pt x="188" y="162"/>
                        <a:pt x="210" y="184"/>
                      </a:cubicBezTo>
                      <a:cubicBezTo>
                        <a:pt x="242" y="216"/>
                        <a:pt x="290" y="224"/>
                        <a:pt x="330" y="244"/>
                      </a:cubicBezTo>
                      <a:cubicBezTo>
                        <a:pt x="340" y="274"/>
                        <a:pt x="329" y="327"/>
                        <a:pt x="360" y="334"/>
                      </a:cubicBezTo>
                      <a:cubicBezTo>
                        <a:pt x="439" y="351"/>
                        <a:pt x="519" y="304"/>
                        <a:pt x="600" y="304"/>
                      </a:cubicBezTo>
                      <a:cubicBezTo>
                        <a:pt x="632" y="304"/>
                        <a:pt x="660" y="324"/>
                        <a:pt x="690" y="334"/>
                      </a:cubicBezTo>
                      <a:cubicBezTo>
                        <a:pt x="746" y="0"/>
                        <a:pt x="675" y="174"/>
                        <a:pt x="780" y="244"/>
                      </a:cubicBezTo>
                      <a:cubicBezTo>
                        <a:pt x="910" y="330"/>
                        <a:pt x="900" y="220"/>
                        <a:pt x="900" y="30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772160" y="5697360"/>
                  <a:ext cx="183600" cy="30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723920" y="5960880"/>
                  <a:ext cx="151560" cy="302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2847600" y="6052320"/>
                <a:ext cx="127440" cy="30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15800" y="5716080"/>
                <a:ext cx="527040" cy="58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3110760" y="5914440"/>
                <a:ext cx="2339640" cy="84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4835520" y="6051960"/>
                <a:ext cx="50292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925080" y="5976000"/>
                <a:ext cx="862200" cy="74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2983320" y="5708520"/>
                <a:ext cx="165276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2847600" y="5418000"/>
                <a:ext cx="502920" cy="23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03400" y="6067800"/>
                <a:ext cx="606600" cy="64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74080" y="5379840"/>
                <a:ext cx="135720" cy="993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98400" y="5631840"/>
                <a:ext cx="55800" cy="53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110760" y="5662440"/>
                <a:ext cx="319320" cy="6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"/>
          <p:cNvSpPr/>
          <p:nvPr/>
        </p:nvSpPr>
        <p:spPr>
          <a:xfrm flipV="1">
            <a:off x="1905120" y="7010280"/>
            <a:ext cx="1523880" cy="9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: schnellstwachsender Datendienst weltweit, durch grafische Benutzeroberfläche intuitiv zu bedienen, multimedialer Dienst, praktisch "alles" ist weltweit abfragbar, verantw. für den Boom des Internets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b: 'Netz' oder 'Weben'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ypertext: Lineare Anordnung eines Textes (vgl. Buch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yperlink: Verweise (Strukturaufbau, der nicht linear ist)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ypertext - Computermethode, Informationen zu verzweigen, Anwender bewegt sich intuitiv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alogie: Lexiko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937-753D-4FBD-8D55-124AA546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823-CD9B-46E4-BB50-203D61D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368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9E1-C2BF-4CD1-A4E5-EA6F06E4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95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4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95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4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929-EE25-448C-A55E-B6B2731B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980-28AA-422F-A34F-3A85816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4FF-6BBF-4614-A03A-B6562B7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7A2-9CD6-490E-92ED-11999F5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C27-E7F1-4B42-BE0C-5D59D7A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9BD-CDCE-4D02-81D8-BA0F861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0D8-C0E6-43E7-989E-8895A5B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368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D41-E984-469C-AC84-3277B9F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368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5DB-7135-445D-9346-4C6E863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5742-E835-4274-932B-6A7E9E8B4227}" type="slidenum">
              <a:rPr b="1" lang="en-US" sz="9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12280" y="6636960"/>
            <a:ext cx="31755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2"/>
                </a:solidFill>
                <a:latin typeface="Tahoma"/>
              </a:rPr>
              <a:t>Franz Rohmer VHS Bad Wurzach 25.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schich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295280"/>
            <a:ext cx="4419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5280" indent="-6652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Überlegung für ein dezentrales Computernetz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. Baran, RAND Corpo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67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Planungen zur Realisierung der Idee von 196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905120"/>
            <a:ext cx="3810240" cy="2590560"/>
          </a:xfrm>
          <a:prstGeom prst="cloudCallout">
            <a:avLst>
              <a:gd name="adj1" fmla="val -39625"/>
              <a:gd name="adj2" fmla="val 76717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685600"/>
            <a:ext cx="270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utz eines Netzwerks vor teilweiser atomarer Zerstörung. Ein System ohne zentrale Steuer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C2F-94DE-435A-A18B-A30CF2E591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1962" t="26824" r="9980" b="49681"/>
          <a:stretch/>
        </p:blipFill>
        <p:spPr>
          <a:xfrm>
            <a:off x="689040" y="3138480"/>
            <a:ext cx="31208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Aufbau von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t mit Grafiken und Bildern und eingebetteten Hyperlin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perlinks verweisen au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3240" y="1611360"/>
            <a:ext cx="146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89320" y="4135320"/>
            <a:ext cx="1482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2"/>
                </a:solidFill>
                <a:uFillTx/>
                <a:latin typeface="Arial"/>
              </a:rPr>
              <a:t>Hyper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9E3-AF7A-4FDD-B05C-22C5C91911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1962" t="26824" r="9980" b="49681"/>
          <a:stretch/>
        </p:blipFill>
        <p:spPr>
          <a:xfrm>
            <a:off x="689040" y="3138480"/>
            <a:ext cx="31208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Aufbau von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t mit Grafiken und Bildern und eingebetteten Hyperlin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perlinks verweisen au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ere WWW-S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69532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 rot="18600000">
            <a:off x="2015640" y="308916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3240" y="1611360"/>
            <a:ext cx="146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C1E-CF69-4D05-99C8-CCBB3B70263C}" type="slidenum">
              <a:t>11</a:t>
            </a:fld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46160" y="4408560"/>
          <a:ext cx="11700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4408560"/>
                    <a:ext cx="1170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3"/>
          <a:srcRect l="1962" t="26824" r="9980" b="49681"/>
          <a:stretch/>
        </p:blipFill>
        <p:spPr>
          <a:xfrm>
            <a:off x="689040" y="3138480"/>
            <a:ext cx="31208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Aufbau von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t mit Grafiken und Bildern und eingebetteten Hyperlin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perlinks verweisen au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ere WWW-S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ld- und Videodoku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1676520" y="2514600"/>
            <a:ext cx="269532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4" name=""/>
          <p:cNvSpPr/>
          <p:nvPr/>
        </p:nvSpPr>
        <p:spPr>
          <a:xfrm rot="18600000">
            <a:off x="2015640" y="308916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6736200">
            <a:off x="456480" y="40384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240" y="1611360"/>
            <a:ext cx="146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F9F-ED97-43AA-9288-37D8F93F2255}" type="slidenum">
              <a:t>12</a:t>
            </a:fld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46160" y="4408560"/>
          <a:ext cx="11700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4408560"/>
                    <a:ext cx="1170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9" name="" descr=""/>
          <p:cNvPicPr/>
          <p:nvPr/>
        </p:nvPicPr>
        <p:blipFill>
          <a:blip r:embed="rId3"/>
          <a:srcRect l="1962" t="26824" r="9980" b="49681"/>
          <a:stretch/>
        </p:blipFill>
        <p:spPr>
          <a:xfrm>
            <a:off x="689040" y="3138480"/>
            <a:ext cx="31208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Aufbau von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t mit Grafiken und Bildern und eingebetteten Hyperlin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perlinks verweisen au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ere WWW-S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ld- und Videodoku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sikdoku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676520" y="2514600"/>
            <a:ext cx="269532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3" name=""/>
          <p:cNvSpPr/>
          <p:nvPr/>
        </p:nvSpPr>
        <p:spPr>
          <a:xfrm rot="18600000">
            <a:off x="2015640" y="308916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6736200">
            <a:off x="456480" y="40384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2438280" y="4267080"/>
            <a:ext cx="685800" cy="600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rot="4680600">
            <a:off x="2314080" y="40222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3240" y="1611360"/>
            <a:ext cx="146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76C-0516-4C6B-B45A-53798BD64ADD}" type="slidenum">
              <a:t>13</a:t>
            </a:fld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46160" y="4408560"/>
          <a:ext cx="11700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4408560"/>
                    <a:ext cx="1170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" descr=""/>
          <p:cNvPicPr/>
          <p:nvPr/>
        </p:nvPicPr>
        <p:blipFill>
          <a:blip r:embed="rId3"/>
          <a:srcRect l="1962" t="26824" r="9980" b="49681"/>
          <a:stretch/>
        </p:blipFill>
        <p:spPr>
          <a:xfrm>
            <a:off x="689040" y="3138480"/>
            <a:ext cx="31208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Aufbau von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xt mit Grafiken und Bildern und eingebetteten Hyperlin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perlinks verweisen au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ere WWW-S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ld- und Videodoku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sikdoku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peicherbare Date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676520" y="2514600"/>
            <a:ext cx="269532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14" name=""/>
          <p:cNvSpPr/>
          <p:nvPr/>
        </p:nvSpPr>
        <p:spPr>
          <a:xfrm rot="18600000">
            <a:off x="2015640" y="308916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6736200">
            <a:off x="456480" y="40384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2438280" y="4267080"/>
            <a:ext cx="685800" cy="600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rot="4680600">
            <a:off x="2314080" y="40222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1438200" y="4438800"/>
            <a:ext cx="685800" cy="631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rot="4680600">
            <a:off x="1366560" y="42577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3c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40" y="1611360"/>
            <a:ext cx="146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EF-309E-41CF-B4F8-735DB38FEA17}" type="slidenum">
              <a:t>14</a:t>
            </a:fld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914400" y="1828800"/>
          <a:ext cx="2903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290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FTP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Dateien übertr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keit zum Austausch vo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un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72A-6196-47E6-A02B-E9B98B204E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1066680"/>
            <a:ext cx="4419720" cy="5562720"/>
            <a:chOff x="0" y="1066680"/>
            <a:chExt cx="4419720" cy="5562720"/>
          </a:xfrm>
        </p:grpSpPr>
        <p:sp>
          <p:nvSpPr>
            <p:cNvPr id="426" name=""/>
            <p:cNvSpPr/>
            <p:nvPr/>
          </p:nvSpPr>
          <p:spPr>
            <a:xfrm>
              <a:off x="0" y="1066680"/>
              <a:ext cx="4419720" cy="5562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85040" y="3732840"/>
              <a:ext cx="4932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F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Funktions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-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Datenaustausch mit FTP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676520" y="1371600"/>
          <a:ext cx="119376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119376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 rot="5400000">
            <a:off x="2438280" y="3581280"/>
            <a:ext cx="990360" cy="380880"/>
          </a:xfrm>
          <a:custGeom>
            <a:avLst/>
            <a:gdLst>
              <a:gd name="textAreaLeft" fmla="*/ 154800 w 990360"/>
              <a:gd name="textAreaRight" fmla="*/ 866880 w 990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2438280" y="3429000"/>
            <a:ext cx="990720" cy="38088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60880" y="3498120"/>
            <a:ext cx="7963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2"/>
                </a:solidFill>
                <a:latin typeface="Tahoma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37040" y="3525120"/>
            <a:ext cx="10584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2"/>
                </a:solidFill>
                <a:latin typeface="Tahoma"/>
              </a:rPr>
              <a:t>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24280" y="25146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085-6B8A-4B12-9127-07CD01EB2A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914400" y="1828800"/>
          <a:ext cx="2903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290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Email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9560" y="1600200"/>
            <a:ext cx="441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Die elektronische Post –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Nachrichten zur weltweiten Kommun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un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318-CCAB-4A0A-973A-C3945C38B66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09480" y="2478240"/>
            <a:ext cx="1981440" cy="3160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ie funktioniert Email? - Übertragung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943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ender schreibt die Nachr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ickt die Nachricht an das elektronische Postamt (Email Server), bei dem der Empfänger registriert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änger holt die Nachricht dort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 Emails versenden oder empfangen zu können wird ein Email-Client benöti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839960" y="2679840"/>
            <a:ext cx="723960" cy="1017360"/>
            <a:chOff x="1839960" y="2679840"/>
            <a:chExt cx="723960" cy="1017360"/>
          </a:xfrm>
        </p:grpSpPr>
        <p:grpSp>
          <p:nvGrpSpPr>
            <p:cNvPr id="445" name=""/>
            <p:cNvGrpSpPr/>
            <p:nvPr/>
          </p:nvGrpSpPr>
          <p:grpSpPr>
            <a:xfrm>
              <a:off x="1943280" y="2679840"/>
              <a:ext cx="407880" cy="1017360"/>
              <a:chOff x="1943280" y="2679840"/>
              <a:chExt cx="407880" cy="1017360"/>
            </a:xfrm>
          </p:grpSpPr>
          <p:sp>
            <p:nvSpPr>
              <p:cNvPr id="446" name=""/>
              <p:cNvSpPr/>
              <p:nvPr/>
            </p:nvSpPr>
            <p:spPr>
              <a:xfrm>
                <a:off x="1968480" y="2833560"/>
                <a:ext cx="382680" cy="83844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63880" y="2741760"/>
                <a:ext cx="191880" cy="6336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63880" y="2679840"/>
                <a:ext cx="19188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43280" y="2859120"/>
                <a:ext cx="382320" cy="83808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38320" y="2766960"/>
                <a:ext cx="192240" cy="6372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38320" y="2705040"/>
                <a:ext cx="19224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955880" y="2846520"/>
                <a:ext cx="382680" cy="83808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50920" y="2754360"/>
                <a:ext cx="192240" cy="6336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50920" y="2692440"/>
                <a:ext cx="19224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1839960" y="2914560"/>
              <a:ext cx="723960" cy="403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56" name=""/>
          <p:cNvGraphicFramePr/>
          <p:nvPr/>
        </p:nvGraphicFramePr>
        <p:xfrm>
          <a:off x="609480" y="1143000"/>
          <a:ext cx="1733760" cy="54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143000"/>
                    <a:ext cx="17337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8" name=""/>
          <p:cNvGrpSpPr/>
          <p:nvPr/>
        </p:nvGrpSpPr>
        <p:grpSpPr>
          <a:xfrm>
            <a:off x="1447920" y="3809880"/>
            <a:ext cx="1143000" cy="838440"/>
            <a:chOff x="1447920" y="3809880"/>
            <a:chExt cx="1143000" cy="838440"/>
          </a:xfrm>
        </p:grpSpPr>
        <p:sp>
          <p:nvSpPr>
            <p:cNvPr id="459" name=""/>
            <p:cNvSpPr/>
            <p:nvPr/>
          </p:nvSpPr>
          <p:spPr>
            <a:xfrm>
              <a:off x="1447920" y="3809880"/>
              <a:ext cx="1143000" cy="8384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4"/>
            <a:stretch/>
          </p:blipFill>
          <p:spPr>
            <a:xfrm>
              <a:off x="1679400" y="3859200"/>
              <a:ext cx="7398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1839960" y="4584600"/>
            <a:ext cx="723960" cy="1017720"/>
            <a:chOff x="1839960" y="4584600"/>
            <a:chExt cx="723960" cy="1017720"/>
          </a:xfrm>
        </p:grpSpPr>
        <p:grpSp>
          <p:nvGrpSpPr>
            <p:cNvPr id="462" name=""/>
            <p:cNvGrpSpPr/>
            <p:nvPr/>
          </p:nvGrpSpPr>
          <p:grpSpPr>
            <a:xfrm>
              <a:off x="1943280" y="4584600"/>
              <a:ext cx="407880" cy="1017720"/>
              <a:chOff x="1943280" y="4584600"/>
              <a:chExt cx="407880" cy="1017720"/>
            </a:xfrm>
          </p:grpSpPr>
          <p:sp>
            <p:nvSpPr>
              <p:cNvPr id="463" name=""/>
              <p:cNvSpPr/>
              <p:nvPr/>
            </p:nvSpPr>
            <p:spPr>
              <a:xfrm>
                <a:off x="1968480" y="4738680"/>
                <a:ext cx="382680" cy="83808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63880" y="4646520"/>
                <a:ext cx="191880" cy="6372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63880" y="4584600"/>
                <a:ext cx="19188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943280" y="4764240"/>
                <a:ext cx="382320" cy="83808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38320" y="4672080"/>
                <a:ext cx="192240" cy="6336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038320" y="4610160"/>
                <a:ext cx="19224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55880" y="4751280"/>
                <a:ext cx="382680" cy="838440"/>
              </a:xfrm>
              <a:custGeom>
                <a:avLst/>
                <a:gdLst/>
                <a:ahLst/>
                <a:rect l="l" t="t" r="r" b="b"/>
                <a:pathLst>
                  <a:path w="241" h="528">
                    <a:moveTo>
                      <a:pt x="240" y="371"/>
                    </a:moveTo>
                    <a:lnTo>
                      <a:pt x="180" y="371"/>
                    </a:lnTo>
                    <a:lnTo>
                      <a:pt x="180" y="0"/>
                    </a:lnTo>
                    <a:lnTo>
                      <a:pt x="60" y="0"/>
                    </a:lnTo>
                    <a:lnTo>
                      <a:pt x="60" y="371"/>
                    </a:lnTo>
                    <a:lnTo>
                      <a:pt x="0" y="371"/>
                    </a:lnTo>
                    <a:lnTo>
                      <a:pt x="120" y="527"/>
                    </a:lnTo>
                    <a:lnTo>
                      <a:pt x="240" y="37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50920" y="4659480"/>
                <a:ext cx="192240" cy="6336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2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20" y="3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50920" y="4597560"/>
                <a:ext cx="192240" cy="31680"/>
              </a:xfrm>
              <a:custGeom>
                <a:avLst/>
                <a:gdLst/>
                <a:ahLst/>
                <a:rect l="l" t="t" r="r" b="b"/>
                <a:pathLst>
                  <a:path w="121" h="20">
                    <a:moveTo>
                      <a:pt x="12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0" y="19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1839960" y="4819680"/>
              <a:ext cx="72396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000-2E93-435A-8A38-05D9DF582C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914400" y="1828800"/>
          <a:ext cx="2903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290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4"/>
                </a:solidFill>
                <a:latin typeface="Tahoma"/>
              </a:rPr>
              <a:t>Was ist News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Die Diskussionsfore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menbezogener Austausch von Nachrichten in 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un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18C-2EA7-483E-83BF-E0A89450EA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95680" y="1295280"/>
            <a:ext cx="4419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PAN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indung von 4 Universitäten und Forschungseinrich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schich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133720"/>
            <a:ext cx="2514600" cy="3429000"/>
            <a:chOff x="914400" y="2133720"/>
            <a:chExt cx="2514600" cy="3429000"/>
          </a:xfrm>
        </p:grpSpPr>
        <p:sp>
          <p:nvSpPr>
            <p:cNvPr id="59" name=""/>
            <p:cNvSpPr/>
            <p:nvPr/>
          </p:nvSpPr>
          <p:spPr>
            <a:xfrm>
              <a:off x="1143000" y="2895480"/>
              <a:ext cx="205740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143000" y="2362320"/>
              <a:ext cx="137160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2895480"/>
              <a:ext cx="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42640" y="4343400"/>
              <a:ext cx="205740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143000" y="2362320"/>
              <a:ext cx="13716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4600" y="2362320"/>
              <a:ext cx="68580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26668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2133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51055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9DC-0859-4360-85A6-FBFE864110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1066680"/>
            <a:ext cx="4419720" cy="5562720"/>
            <a:chOff x="0" y="1066680"/>
            <a:chExt cx="4419720" cy="5562720"/>
          </a:xfrm>
        </p:grpSpPr>
        <p:sp>
          <p:nvSpPr>
            <p:cNvPr id="478" name=""/>
            <p:cNvSpPr/>
            <p:nvPr/>
          </p:nvSpPr>
          <p:spPr>
            <a:xfrm>
              <a:off x="0" y="1066680"/>
              <a:ext cx="4419720" cy="5562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88560" y="3732840"/>
              <a:ext cx="68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NN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228600" y="1219320"/>
          <a:ext cx="36576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36576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r News-Server hält eine Anzahl von Diskussionsforen ber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richten der Foren werden auf Anfrage des Client bereitgestel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ver und Clients verwend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NTP-Protokoll</a:t>
            </a:r>
            <a:br>
              <a:rPr sz="2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twor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w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otoc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ie funktionieren Diskussionsforen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280-CB52-4ACF-A777-0FA650612EB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914400" y="1828800"/>
          <a:ext cx="2903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290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4"/>
                </a:solidFill>
                <a:latin typeface="Tahoma"/>
              </a:rPr>
              <a:t>Was ist Chat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Kommunikation in Echtz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ere Teilnehmer gleichzeit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unabhäng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39E-07DE-4A29-B275-FBA91A1D78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1066680"/>
            <a:ext cx="4419720" cy="5562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419360" y="129492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lient steht über einen Server mit anderen Clients in Verb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steht eine große Anzahl an Chat-Servern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ts sind unterteilt nach Diskussionsth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chiedene Chat-Angeb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WW-Chat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RC (Internet Relay Chat) über einen IRC-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 von 'nick names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4"/>
                </a:solidFill>
                <a:latin typeface="Tahoma"/>
              </a:rPr>
              <a:t>Wie funktioniert Chat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33520" y="1447920"/>
          <a:ext cx="34858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4858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043-92EF-455C-88BF-1AC503E27C0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609480" y="1371600"/>
          <a:ext cx="2759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2759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Zusammenfassung: Diens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85840" y="487692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0000"/>
                </a:solidFill>
                <a:latin typeface="Arial"/>
              </a:rPr>
              <a:t>Neuere Internet-Dien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ferenz - Telefon- /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casting - z.B. Fernse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1143000"/>
            <a:ext cx="4724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0000"/>
                </a:solidFill>
                <a:latin typeface="Arial"/>
              </a:rPr>
              <a:t>Die bekanntesten Internet-Dien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WW - World Wide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ail - elektronische 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2590920"/>
            <a:ext cx="4724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0000"/>
                </a:solidFill>
                <a:latin typeface="Arial"/>
              </a:rPr>
              <a:t>Weitere Internet-Dien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TP - Dateiübertra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s - Diskussionsf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t - Kommunikation in Echtz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lnet - Computer fernbedien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3A-2BBB-4DDB-90BC-296E7486B9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kürzter und veränderter Originalvortrag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lbs.bw.schule.de/mmlfb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mmcd" descr=""/>
          <p:cNvPicPr/>
          <p:nvPr/>
        </p:nvPicPr>
        <p:blipFill>
          <a:blip r:embed="rId1"/>
          <a:stretch/>
        </p:blipFill>
        <p:spPr>
          <a:xfrm>
            <a:off x="70866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0B5-1A19-44CE-8775-5471DDF95B4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rpanet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143240" cy="512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arpanet1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14324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52280" y="22860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schichte des Inter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1523880"/>
            <a:ext cx="3886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PANET: Verbindung von 4 Universitäten und Forschungseinrich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1BC-B64E-4444-86D7-5574595412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990360" y="2209680"/>
            <a:ext cx="762120" cy="3353040"/>
            <a:chOff x="990360" y="2209680"/>
            <a:chExt cx="762120" cy="3353040"/>
          </a:xfrm>
        </p:grpSpPr>
        <p:sp>
          <p:nvSpPr>
            <p:cNvPr id="74" name=""/>
            <p:cNvSpPr/>
            <p:nvPr/>
          </p:nvSpPr>
          <p:spPr>
            <a:xfrm flipH="1">
              <a:off x="1676160" y="4952880"/>
              <a:ext cx="75960" cy="60984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4800600"/>
              <a:ext cx="609480" cy="15228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90720" y="3886200"/>
              <a:ext cx="152280" cy="99072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90360" y="3048120"/>
              <a:ext cx="152280" cy="83808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3000" y="2209680"/>
              <a:ext cx="0" cy="838440"/>
            </a:xfrm>
            <a:prstGeom prst="line">
              <a:avLst/>
            </a:prstGeom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43000" y="2209680"/>
            <a:ext cx="1447920" cy="3581640"/>
            <a:chOff x="1143000" y="2209680"/>
            <a:chExt cx="1447920" cy="3581640"/>
          </a:xfrm>
        </p:grpSpPr>
        <p:sp>
          <p:nvSpPr>
            <p:cNvPr id="80" name=""/>
            <p:cNvSpPr/>
            <p:nvPr/>
          </p:nvSpPr>
          <p:spPr>
            <a:xfrm>
              <a:off x="1676520" y="5562720"/>
              <a:ext cx="761760" cy="2286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2361960" y="5257800"/>
              <a:ext cx="75960" cy="5335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362320" y="4800600"/>
              <a:ext cx="228600" cy="4572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590920" y="4267080"/>
              <a:ext cx="0" cy="5335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209320" y="4114440"/>
              <a:ext cx="381240" cy="152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09680" y="3428640"/>
              <a:ext cx="152640" cy="6858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2057040" y="3123720"/>
              <a:ext cx="304920" cy="304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05120" y="3124080"/>
              <a:ext cx="152280" cy="4572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2819520"/>
              <a:ext cx="152640" cy="7617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143000" y="2819160"/>
              <a:ext cx="609480" cy="2286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209680"/>
              <a:ext cx="0" cy="8384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495680" y="1752480"/>
            <a:ext cx="441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öffentliche Vorstellung des ARPANET mit 40 Rechn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internationale Verbindungen nach England und Norw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6652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ammenführung verschiedener anderer Netze mit gleicher 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2120" y="1600200"/>
            <a:ext cx="3047400" cy="4267080"/>
            <a:chOff x="762120" y="1600200"/>
            <a:chExt cx="3047400" cy="4267080"/>
          </a:xfrm>
        </p:grpSpPr>
        <p:sp>
          <p:nvSpPr>
            <p:cNvPr id="93" name=""/>
            <p:cNvSpPr/>
            <p:nvPr/>
          </p:nvSpPr>
          <p:spPr>
            <a:xfrm flipV="1">
              <a:off x="1676160" y="4952880"/>
              <a:ext cx="7596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200400" y="3885840"/>
              <a:ext cx="532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895480" y="54860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2666520" y="274284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61960" y="320004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61960" y="3352680"/>
              <a:ext cx="8380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590200" y="388620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52480" y="4343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447560" y="46483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143000" y="4800240"/>
              <a:ext cx="6091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1676160" y="5562360"/>
              <a:ext cx="7617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2361600" y="5257440"/>
              <a:ext cx="5331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209320" y="4114440"/>
              <a:ext cx="3805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2057040" y="3123720"/>
              <a:ext cx="3042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09680" y="3429000"/>
              <a:ext cx="151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904760" y="2286000"/>
              <a:ext cx="3045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14040" y="1676520"/>
              <a:ext cx="304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057040" y="1905120"/>
              <a:ext cx="3805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66520" y="2514600"/>
              <a:ext cx="4568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76160" y="3581280"/>
              <a:ext cx="2282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904400" y="312408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4191120"/>
              <a:ext cx="759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1960" y="525780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0560" y="42670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752120" y="4114800"/>
              <a:ext cx="45684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447560" y="3962520"/>
              <a:ext cx="228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57400" y="2666880"/>
              <a:ext cx="151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581280" y="4191120"/>
              <a:ext cx="151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00040" y="4648320"/>
              <a:ext cx="3805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895480" y="518148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361960" y="4800600"/>
              <a:ext cx="228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819160" y="3352680"/>
              <a:ext cx="3808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38280" y="2743200"/>
              <a:ext cx="228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66880" y="2133720"/>
              <a:ext cx="1519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09680" y="1905120"/>
              <a:ext cx="2282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43000" y="1676520"/>
              <a:ext cx="756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360" y="3886200"/>
              <a:ext cx="1522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560" y="3352680"/>
              <a:ext cx="228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2480" y="2819520"/>
              <a:ext cx="151920" cy="71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990000" y="3048120"/>
              <a:ext cx="1522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220968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143000" y="2819520"/>
              <a:ext cx="60912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142640" y="2031840"/>
              <a:ext cx="4568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0200" y="2031840"/>
              <a:ext cx="151920" cy="71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21337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195588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6680" y="294624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1960" y="3124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1960" y="1828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160" y="27432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35053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30481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7242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45720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360" y="4038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160" y="48769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38098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4080" y="38098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7760" y="41148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160" y="54100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1960" y="5715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4080" y="57150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3000" y="16002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22096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19051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360" y="2565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20574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560" y="26668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160" y="42418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33526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7760" y="24382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32767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0200" y="54864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0" y="51814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51055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7600" y="408924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41911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4600" y="47242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496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38098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1600" y="325116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388620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37720" y="1828800"/>
              <a:ext cx="759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752480"/>
              <a:ext cx="151920" cy="1526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20" y="25146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0880" y="3352680"/>
            <a:ext cx="1752840" cy="213372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5410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schich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066680"/>
          <a:ext cx="46101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6101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320" y="6476040"/>
            <a:ext cx="292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elle: Network Wizards http://www.nw.com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25780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2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718-60DD-47B4-8230-1BE7D95605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143000"/>
            <a:ext cx="713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12000" indent="-612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8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Geschich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74644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1143000"/>
            <a:ext cx="61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385560" indent="-3855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143000"/>
            <a:ext cx="528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106200" indent="-106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143000"/>
            <a:ext cx="384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186120" indent="-1861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644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56.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644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617.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2240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3.864.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6476040"/>
            <a:ext cx="292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elle: Network Wizards http://www.nw.com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43200" y="2195640"/>
          <a:ext cx="373680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195640"/>
                    <a:ext cx="373680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867280" y="1143000"/>
            <a:ext cx="29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186120" indent="-1861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95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7012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6.642.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86600" y="1143000"/>
            <a:ext cx="147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186120" indent="-1861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8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6440" y="5334120"/>
            <a:ext cx="36766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 anchorCtr="1">
            <a:sp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2"/>
                </a:solidFill>
                <a:latin typeface="Tahoma"/>
              </a:rPr>
              <a:t>29.670.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F36-C6E8-49E3-BEF3-A455E78ED5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427800" y="1371600"/>
            <a:ext cx="2455920" cy="2397240"/>
          </a:xfrm>
          <a:custGeom>
            <a:avLst/>
            <a:gdLst/>
            <a:ahLst/>
            <a:rect l="l" t="t" r="r" b="b"/>
            <a:pathLst>
              <a:path w="1547" h="1469">
                <a:moveTo>
                  <a:pt x="1356" y="124"/>
                </a:moveTo>
                <a:cubicBezTo>
                  <a:pt x="1314" y="140"/>
                  <a:pt x="1259" y="127"/>
                  <a:pt x="1216" y="114"/>
                </a:cubicBezTo>
                <a:cubicBezTo>
                  <a:pt x="1169" y="83"/>
                  <a:pt x="1085" y="83"/>
                  <a:pt x="1030" y="78"/>
                </a:cubicBezTo>
                <a:cubicBezTo>
                  <a:pt x="1001" y="69"/>
                  <a:pt x="975" y="52"/>
                  <a:pt x="947" y="42"/>
                </a:cubicBezTo>
                <a:cubicBezTo>
                  <a:pt x="910" y="30"/>
                  <a:pt x="866" y="22"/>
                  <a:pt x="828" y="16"/>
                </a:cubicBezTo>
                <a:cubicBezTo>
                  <a:pt x="808" y="9"/>
                  <a:pt x="766" y="0"/>
                  <a:pt x="766" y="0"/>
                </a:cubicBezTo>
                <a:cubicBezTo>
                  <a:pt x="718" y="2"/>
                  <a:pt x="669" y="2"/>
                  <a:pt x="621" y="5"/>
                </a:cubicBezTo>
                <a:cubicBezTo>
                  <a:pt x="602" y="6"/>
                  <a:pt x="571" y="28"/>
                  <a:pt x="554" y="36"/>
                </a:cubicBezTo>
                <a:cubicBezTo>
                  <a:pt x="455" y="80"/>
                  <a:pt x="389" y="174"/>
                  <a:pt x="301" y="233"/>
                </a:cubicBezTo>
                <a:cubicBezTo>
                  <a:pt x="276" y="267"/>
                  <a:pt x="232" y="292"/>
                  <a:pt x="197" y="316"/>
                </a:cubicBezTo>
                <a:cubicBezTo>
                  <a:pt x="173" y="333"/>
                  <a:pt x="157" y="369"/>
                  <a:pt x="130" y="378"/>
                </a:cubicBezTo>
                <a:cubicBezTo>
                  <a:pt x="123" y="399"/>
                  <a:pt x="117" y="420"/>
                  <a:pt x="109" y="440"/>
                </a:cubicBezTo>
                <a:cubicBezTo>
                  <a:pt x="116" y="480"/>
                  <a:pt x="121" y="520"/>
                  <a:pt x="130" y="559"/>
                </a:cubicBezTo>
                <a:cubicBezTo>
                  <a:pt x="127" y="607"/>
                  <a:pt x="128" y="667"/>
                  <a:pt x="109" y="714"/>
                </a:cubicBezTo>
                <a:cubicBezTo>
                  <a:pt x="98" y="783"/>
                  <a:pt x="79" y="859"/>
                  <a:pt x="47" y="921"/>
                </a:cubicBezTo>
                <a:cubicBezTo>
                  <a:pt x="28" y="997"/>
                  <a:pt x="10" y="1071"/>
                  <a:pt x="1" y="1149"/>
                </a:cubicBezTo>
                <a:cubicBezTo>
                  <a:pt x="3" y="1176"/>
                  <a:pt x="0" y="1206"/>
                  <a:pt x="11" y="1231"/>
                </a:cubicBezTo>
                <a:cubicBezTo>
                  <a:pt x="59" y="1339"/>
                  <a:pt x="135" y="1352"/>
                  <a:pt x="244" y="1361"/>
                </a:cubicBezTo>
                <a:cubicBezTo>
                  <a:pt x="325" y="1353"/>
                  <a:pt x="391" y="1361"/>
                  <a:pt x="466" y="1386"/>
                </a:cubicBezTo>
                <a:cubicBezTo>
                  <a:pt x="484" y="1398"/>
                  <a:pt x="501" y="1411"/>
                  <a:pt x="518" y="1423"/>
                </a:cubicBezTo>
                <a:cubicBezTo>
                  <a:pt x="561" y="1452"/>
                  <a:pt x="628" y="1457"/>
                  <a:pt x="678" y="1469"/>
                </a:cubicBezTo>
                <a:cubicBezTo>
                  <a:pt x="744" y="1463"/>
                  <a:pt x="811" y="1448"/>
                  <a:pt x="875" y="1433"/>
                </a:cubicBezTo>
                <a:cubicBezTo>
                  <a:pt x="954" y="1438"/>
                  <a:pt x="1029" y="1457"/>
                  <a:pt x="1108" y="1464"/>
                </a:cubicBezTo>
                <a:cubicBezTo>
                  <a:pt x="1115" y="1463"/>
                  <a:pt x="1144" y="1460"/>
                  <a:pt x="1154" y="1454"/>
                </a:cubicBezTo>
                <a:cubicBezTo>
                  <a:pt x="1203" y="1425"/>
                  <a:pt x="1206" y="1372"/>
                  <a:pt x="1221" y="1324"/>
                </a:cubicBezTo>
                <a:cubicBezTo>
                  <a:pt x="1229" y="1226"/>
                  <a:pt x="1238" y="1132"/>
                  <a:pt x="1252" y="1035"/>
                </a:cubicBezTo>
                <a:cubicBezTo>
                  <a:pt x="1259" y="986"/>
                  <a:pt x="1258" y="930"/>
                  <a:pt x="1289" y="890"/>
                </a:cubicBezTo>
                <a:cubicBezTo>
                  <a:pt x="1303" y="829"/>
                  <a:pt x="1358" y="777"/>
                  <a:pt x="1397" y="730"/>
                </a:cubicBezTo>
                <a:cubicBezTo>
                  <a:pt x="1440" y="679"/>
                  <a:pt x="1462" y="606"/>
                  <a:pt x="1495" y="549"/>
                </a:cubicBezTo>
                <a:cubicBezTo>
                  <a:pt x="1523" y="501"/>
                  <a:pt x="1526" y="460"/>
                  <a:pt x="1537" y="404"/>
                </a:cubicBezTo>
                <a:cubicBezTo>
                  <a:pt x="1540" y="387"/>
                  <a:pt x="1547" y="352"/>
                  <a:pt x="1547" y="352"/>
                </a:cubicBezTo>
                <a:cubicBezTo>
                  <a:pt x="1544" y="310"/>
                  <a:pt x="1547" y="263"/>
                  <a:pt x="1521" y="228"/>
                </a:cubicBezTo>
                <a:cubicBezTo>
                  <a:pt x="1509" y="189"/>
                  <a:pt x="1526" y="233"/>
                  <a:pt x="1501" y="202"/>
                </a:cubicBezTo>
                <a:cubicBezTo>
                  <a:pt x="1470" y="164"/>
                  <a:pt x="1522" y="208"/>
                  <a:pt x="1485" y="171"/>
                </a:cubicBezTo>
                <a:cubicBezTo>
                  <a:pt x="1460" y="146"/>
                  <a:pt x="1426" y="137"/>
                  <a:pt x="1392" y="130"/>
                </a:cubicBezTo>
                <a:cubicBezTo>
                  <a:pt x="1387" y="128"/>
                  <a:pt x="1382" y="124"/>
                  <a:pt x="1377" y="124"/>
                </a:cubicBezTo>
                <a:cubicBezTo>
                  <a:pt x="1353" y="124"/>
                  <a:pt x="1367" y="138"/>
                  <a:pt x="1356" y="124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8120" y="1224000"/>
            <a:ext cx="2833560" cy="2529000"/>
          </a:xfrm>
          <a:custGeom>
            <a:avLst/>
            <a:gdLst/>
            <a:ahLst/>
            <a:rect l="l" t="t" r="r" b="b"/>
            <a:pathLst>
              <a:path w="1785" h="1593">
                <a:moveTo>
                  <a:pt x="586" y="207"/>
                </a:moveTo>
                <a:cubicBezTo>
                  <a:pt x="564" y="228"/>
                  <a:pt x="540" y="245"/>
                  <a:pt x="513" y="258"/>
                </a:cubicBezTo>
                <a:cubicBezTo>
                  <a:pt x="433" y="346"/>
                  <a:pt x="283" y="317"/>
                  <a:pt x="182" y="320"/>
                </a:cubicBezTo>
                <a:cubicBezTo>
                  <a:pt x="158" y="330"/>
                  <a:pt x="171" y="325"/>
                  <a:pt x="136" y="336"/>
                </a:cubicBezTo>
                <a:cubicBezTo>
                  <a:pt x="131" y="338"/>
                  <a:pt x="120" y="341"/>
                  <a:pt x="120" y="341"/>
                </a:cubicBezTo>
                <a:cubicBezTo>
                  <a:pt x="89" y="362"/>
                  <a:pt x="59" y="378"/>
                  <a:pt x="32" y="403"/>
                </a:cubicBezTo>
                <a:cubicBezTo>
                  <a:pt x="19" y="431"/>
                  <a:pt x="7" y="445"/>
                  <a:pt x="1" y="476"/>
                </a:cubicBezTo>
                <a:cubicBezTo>
                  <a:pt x="4" y="514"/>
                  <a:pt x="0" y="553"/>
                  <a:pt x="12" y="589"/>
                </a:cubicBezTo>
                <a:cubicBezTo>
                  <a:pt x="29" y="644"/>
                  <a:pt x="70" y="700"/>
                  <a:pt x="105" y="745"/>
                </a:cubicBezTo>
                <a:cubicBezTo>
                  <a:pt x="110" y="767"/>
                  <a:pt x="131" y="807"/>
                  <a:pt x="131" y="807"/>
                </a:cubicBezTo>
                <a:cubicBezTo>
                  <a:pt x="139" y="842"/>
                  <a:pt x="150" y="875"/>
                  <a:pt x="157" y="910"/>
                </a:cubicBezTo>
                <a:cubicBezTo>
                  <a:pt x="170" y="1074"/>
                  <a:pt x="107" y="1217"/>
                  <a:pt x="89" y="1376"/>
                </a:cubicBezTo>
                <a:cubicBezTo>
                  <a:pt x="100" y="1422"/>
                  <a:pt x="103" y="1490"/>
                  <a:pt x="146" y="1520"/>
                </a:cubicBezTo>
                <a:cubicBezTo>
                  <a:pt x="175" y="1540"/>
                  <a:pt x="156" y="1528"/>
                  <a:pt x="203" y="1552"/>
                </a:cubicBezTo>
                <a:cubicBezTo>
                  <a:pt x="213" y="1557"/>
                  <a:pt x="234" y="1562"/>
                  <a:pt x="234" y="1562"/>
                </a:cubicBezTo>
                <a:cubicBezTo>
                  <a:pt x="252" y="1579"/>
                  <a:pt x="287" y="1582"/>
                  <a:pt x="312" y="1588"/>
                </a:cubicBezTo>
                <a:cubicBezTo>
                  <a:pt x="368" y="1583"/>
                  <a:pt x="421" y="1576"/>
                  <a:pt x="472" y="1552"/>
                </a:cubicBezTo>
                <a:cubicBezTo>
                  <a:pt x="517" y="1554"/>
                  <a:pt x="562" y="1554"/>
                  <a:pt x="607" y="1557"/>
                </a:cubicBezTo>
                <a:cubicBezTo>
                  <a:pt x="654" y="1560"/>
                  <a:pt x="706" y="1582"/>
                  <a:pt x="751" y="1593"/>
                </a:cubicBezTo>
                <a:cubicBezTo>
                  <a:pt x="891" y="1588"/>
                  <a:pt x="872" y="1586"/>
                  <a:pt x="969" y="1567"/>
                </a:cubicBezTo>
                <a:cubicBezTo>
                  <a:pt x="1035" y="1518"/>
                  <a:pt x="1057" y="1468"/>
                  <a:pt x="1103" y="1407"/>
                </a:cubicBezTo>
                <a:cubicBezTo>
                  <a:pt x="1108" y="1382"/>
                  <a:pt x="1112" y="1367"/>
                  <a:pt x="1124" y="1345"/>
                </a:cubicBezTo>
                <a:cubicBezTo>
                  <a:pt x="1135" y="1297"/>
                  <a:pt x="1126" y="1315"/>
                  <a:pt x="1144" y="1288"/>
                </a:cubicBezTo>
                <a:cubicBezTo>
                  <a:pt x="1152" y="1253"/>
                  <a:pt x="1168" y="1229"/>
                  <a:pt x="1186" y="1200"/>
                </a:cubicBezTo>
                <a:cubicBezTo>
                  <a:pt x="1203" y="1172"/>
                  <a:pt x="1209" y="1148"/>
                  <a:pt x="1227" y="1122"/>
                </a:cubicBezTo>
                <a:cubicBezTo>
                  <a:pt x="1235" y="1087"/>
                  <a:pt x="1228" y="1107"/>
                  <a:pt x="1258" y="1065"/>
                </a:cubicBezTo>
                <a:cubicBezTo>
                  <a:pt x="1262" y="1060"/>
                  <a:pt x="1269" y="1050"/>
                  <a:pt x="1269" y="1050"/>
                </a:cubicBezTo>
                <a:cubicBezTo>
                  <a:pt x="1280" y="1014"/>
                  <a:pt x="1319" y="1000"/>
                  <a:pt x="1346" y="977"/>
                </a:cubicBezTo>
                <a:cubicBezTo>
                  <a:pt x="1377" y="950"/>
                  <a:pt x="1401" y="913"/>
                  <a:pt x="1434" y="889"/>
                </a:cubicBezTo>
                <a:cubicBezTo>
                  <a:pt x="1447" y="839"/>
                  <a:pt x="1428" y="902"/>
                  <a:pt x="1455" y="848"/>
                </a:cubicBezTo>
                <a:cubicBezTo>
                  <a:pt x="1460" y="838"/>
                  <a:pt x="1460" y="827"/>
                  <a:pt x="1465" y="817"/>
                </a:cubicBezTo>
                <a:cubicBezTo>
                  <a:pt x="1469" y="810"/>
                  <a:pt x="1472" y="803"/>
                  <a:pt x="1476" y="796"/>
                </a:cubicBezTo>
                <a:cubicBezTo>
                  <a:pt x="1481" y="744"/>
                  <a:pt x="1487" y="693"/>
                  <a:pt x="1491" y="641"/>
                </a:cubicBezTo>
                <a:cubicBezTo>
                  <a:pt x="1497" y="575"/>
                  <a:pt x="1495" y="490"/>
                  <a:pt x="1538" y="434"/>
                </a:cubicBezTo>
                <a:cubicBezTo>
                  <a:pt x="1549" y="400"/>
                  <a:pt x="1571" y="371"/>
                  <a:pt x="1600" y="351"/>
                </a:cubicBezTo>
                <a:cubicBezTo>
                  <a:pt x="1622" y="317"/>
                  <a:pt x="1657" y="298"/>
                  <a:pt x="1682" y="269"/>
                </a:cubicBezTo>
                <a:cubicBezTo>
                  <a:pt x="1708" y="239"/>
                  <a:pt x="1714" y="223"/>
                  <a:pt x="1744" y="201"/>
                </a:cubicBezTo>
                <a:cubicBezTo>
                  <a:pt x="1751" y="185"/>
                  <a:pt x="1770" y="155"/>
                  <a:pt x="1770" y="155"/>
                </a:cubicBezTo>
                <a:cubicBezTo>
                  <a:pt x="1775" y="125"/>
                  <a:pt x="1785" y="77"/>
                  <a:pt x="1765" y="51"/>
                </a:cubicBezTo>
                <a:cubicBezTo>
                  <a:pt x="1747" y="28"/>
                  <a:pt x="1737" y="19"/>
                  <a:pt x="1713" y="10"/>
                </a:cubicBezTo>
                <a:cubicBezTo>
                  <a:pt x="1703" y="6"/>
                  <a:pt x="1682" y="0"/>
                  <a:pt x="1682" y="0"/>
                </a:cubicBezTo>
                <a:cubicBezTo>
                  <a:pt x="1604" y="7"/>
                  <a:pt x="1602" y="20"/>
                  <a:pt x="1538" y="41"/>
                </a:cubicBezTo>
                <a:cubicBezTo>
                  <a:pt x="1520" y="57"/>
                  <a:pt x="1501" y="69"/>
                  <a:pt x="1481" y="82"/>
                </a:cubicBezTo>
                <a:cubicBezTo>
                  <a:pt x="1449" y="103"/>
                  <a:pt x="1427" y="133"/>
                  <a:pt x="1388" y="145"/>
                </a:cubicBezTo>
                <a:cubicBezTo>
                  <a:pt x="1369" y="157"/>
                  <a:pt x="1353" y="165"/>
                  <a:pt x="1331" y="170"/>
                </a:cubicBezTo>
                <a:cubicBezTo>
                  <a:pt x="1283" y="195"/>
                  <a:pt x="1229" y="207"/>
                  <a:pt x="1176" y="212"/>
                </a:cubicBezTo>
                <a:cubicBezTo>
                  <a:pt x="1093" y="209"/>
                  <a:pt x="1060" y="210"/>
                  <a:pt x="989" y="201"/>
                </a:cubicBezTo>
                <a:cubicBezTo>
                  <a:pt x="933" y="194"/>
                  <a:pt x="880" y="169"/>
                  <a:pt x="824" y="160"/>
                </a:cubicBezTo>
                <a:cubicBezTo>
                  <a:pt x="804" y="161"/>
                  <a:pt x="691" y="161"/>
                  <a:pt x="643" y="170"/>
                </a:cubicBezTo>
                <a:cubicBezTo>
                  <a:pt x="626" y="173"/>
                  <a:pt x="613" y="186"/>
                  <a:pt x="596" y="191"/>
                </a:cubicBezTo>
                <a:cubicBezTo>
                  <a:pt x="593" y="196"/>
                  <a:pt x="586" y="207"/>
                  <a:pt x="586" y="207"/>
                </a:cubicBez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0320" y="1198440"/>
            <a:ext cx="3068640" cy="1511280"/>
          </a:xfrm>
          <a:custGeom>
            <a:avLst/>
            <a:gdLst/>
            <a:ahLst/>
            <a:rect l="l" t="t" r="r" b="b"/>
            <a:pathLst>
              <a:path w="1933" h="952">
                <a:moveTo>
                  <a:pt x="314" y="223"/>
                </a:moveTo>
                <a:cubicBezTo>
                  <a:pt x="261" y="243"/>
                  <a:pt x="207" y="257"/>
                  <a:pt x="153" y="274"/>
                </a:cubicBezTo>
                <a:cubicBezTo>
                  <a:pt x="139" y="284"/>
                  <a:pt x="107" y="295"/>
                  <a:pt x="107" y="295"/>
                </a:cubicBezTo>
                <a:cubicBezTo>
                  <a:pt x="94" y="307"/>
                  <a:pt x="82" y="311"/>
                  <a:pt x="65" y="316"/>
                </a:cubicBezTo>
                <a:cubicBezTo>
                  <a:pt x="43" y="331"/>
                  <a:pt x="30" y="354"/>
                  <a:pt x="19" y="378"/>
                </a:cubicBezTo>
                <a:cubicBezTo>
                  <a:pt x="0" y="496"/>
                  <a:pt x="33" y="572"/>
                  <a:pt x="45" y="683"/>
                </a:cubicBezTo>
                <a:cubicBezTo>
                  <a:pt x="51" y="736"/>
                  <a:pt x="55" y="797"/>
                  <a:pt x="86" y="843"/>
                </a:cubicBezTo>
                <a:cubicBezTo>
                  <a:pt x="101" y="907"/>
                  <a:pt x="114" y="941"/>
                  <a:pt x="184" y="952"/>
                </a:cubicBezTo>
                <a:cubicBezTo>
                  <a:pt x="218" y="947"/>
                  <a:pt x="241" y="938"/>
                  <a:pt x="272" y="926"/>
                </a:cubicBezTo>
                <a:cubicBezTo>
                  <a:pt x="282" y="922"/>
                  <a:pt x="303" y="916"/>
                  <a:pt x="303" y="916"/>
                </a:cubicBezTo>
                <a:cubicBezTo>
                  <a:pt x="354" y="881"/>
                  <a:pt x="281" y="929"/>
                  <a:pt x="340" y="900"/>
                </a:cubicBezTo>
                <a:cubicBezTo>
                  <a:pt x="364" y="888"/>
                  <a:pt x="377" y="867"/>
                  <a:pt x="402" y="859"/>
                </a:cubicBezTo>
                <a:cubicBezTo>
                  <a:pt x="440" y="834"/>
                  <a:pt x="447" y="844"/>
                  <a:pt x="505" y="849"/>
                </a:cubicBezTo>
                <a:cubicBezTo>
                  <a:pt x="553" y="858"/>
                  <a:pt x="601" y="864"/>
                  <a:pt x="650" y="869"/>
                </a:cubicBezTo>
                <a:cubicBezTo>
                  <a:pt x="672" y="876"/>
                  <a:pt x="690" y="891"/>
                  <a:pt x="712" y="900"/>
                </a:cubicBezTo>
                <a:cubicBezTo>
                  <a:pt x="742" y="912"/>
                  <a:pt x="775" y="916"/>
                  <a:pt x="805" y="926"/>
                </a:cubicBezTo>
                <a:cubicBezTo>
                  <a:pt x="827" y="924"/>
                  <a:pt x="850" y="925"/>
                  <a:pt x="872" y="921"/>
                </a:cubicBezTo>
                <a:cubicBezTo>
                  <a:pt x="918" y="913"/>
                  <a:pt x="949" y="875"/>
                  <a:pt x="991" y="859"/>
                </a:cubicBezTo>
                <a:cubicBezTo>
                  <a:pt x="1013" y="839"/>
                  <a:pt x="1042" y="815"/>
                  <a:pt x="1069" y="802"/>
                </a:cubicBezTo>
                <a:cubicBezTo>
                  <a:pt x="1093" y="776"/>
                  <a:pt x="1125" y="746"/>
                  <a:pt x="1157" y="730"/>
                </a:cubicBezTo>
                <a:cubicBezTo>
                  <a:pt x="1171" y="723"/>
                  <a:pt x="1189" y="718"/>
                  <a:pt x="1203" y="709"/>
                </a:cubicBezTo>
                <a:cubicBezTo>
                  <a:pt x="1220" y="698"/>
                  <a:pt x="1231" y="687"/>
                  <a:pt x="1250" y="678"/>
                </a:cubicBezTo>
                <a:cubicBezTo>
                  <a:pt x="1285" y="639"/>
                  <a:pt x="1332" y="603"/>
                  <a:pt x="1384" y="590"/>
                </a:cubicBezTo>
                <a:cubicBezTo>
                  <a:pt x="1400" y="580"/>
                  <a:pt x="1413" y="575"/>
                  <a:pt x="1431" y="569"/>
                </a:cubicBezTo>
                <a:cubicBezTo>
                  <a:pt x="1463" y="546"/>
                  <a:pt x="1511" y="519"/>
                  <a:pt x="1550" y="507"/>
                </a:cubicBezTo>
                <a:cubicBezTo>
                  <a:pt x="1579" y="478"/>
                  <a:pt x="1627" y="456"/>
                  <a:pt x="1664" y="440"/>
                </a:cubicBezTo>
                <a:cubicBezTo>
                  <a:pt x="1685" y="431"/>
                  <a:pt x="1699" y="416"/>
                  <a:pt x="1721" y="409"/>
                </a:cubicBezTo>
                <a:cubicBezTo>
                  <a:pt x="1741" y="394"/>
                  <a:pt x="1764" y="384"/>
                  <a:pt x="1783" y="367"/>
                </a:cubicBezTo>
                <a:cubicBezTo>
                  <a:pt x="1829" y="325"/>
                  <a:pt x="1865" y="282"/>
                  <a:pt x="1902" y="233"/>
                </a:cubicBezTo>
                <a:cubicBezTo>
                  <a:pt x="1907" y="209"/>
                  <a:pt x="1915" y="194"/>
                  <a:pt x="1922" y="171"/>
                </a:cubicBezTo>
                <a:cubicBezTo>
                  <a:pt x="1927" y="156"/>
                  <a:pt x="1933" y="124"/>
                  <a:pt x="1933" y="124"/>
                </a:cubicBezTo>
                <a:cubicBezTo>
                  <a:pt x="1931" y="103"/>
                  <a:pt x="1932" y="82"/>
                  <a:pt x="1927" y="62"/>
                </a:cubicBezTo>
                <a:cubicBezTo>
                  <a:pt x="1918" y="28"/>
                  <a:pt x="1871" y="14"/>
                  <a:pt x="1845" y="0"/>
                </a:cubicBezTo>
                <a:cubicBezTo>
                  <a:pt x="1710" y="8"/>
                  <a:pt x="1575" y="43"/>
                  <a:pt x="1446" y="83"/>
                </a:cubicBezTo>
                <a:cubicBezTo>
                  <a:pt x="1404" y="111"/>
                  <a:pt x="1462" y="75"/>
                  <a:pt x="1410" y="98"/>
                </a:cubicBezTo>
                <a:cubicBezTo>
                  <a:pt x="1390" y="107"/>
                  <a:pt x="1381" y="119"/>
                  <a:pt x="1358" y="124"/>
                </a:cubicBezTo>
                <a:cubicBezTo>
                  <a:pt x="1345" y="138"/>
                  <a:pt x="1284" y="161"/>
                  <a:pt x="1265" y="166"/>
                </a:cubicBezTo>
                <a:cubicBezTo>
                  <a:pt x="1230" y="183"/>
                  <a:pt x="1195" y="195"/>
                  <a:pt x="1157" y="202"/>
                </a:cubicBezTo>
                <a:cubicBezTo>
                  <a:pt x="1137" y="214"/>
                  <a:pt x="1123" y="218"/>
                  <a:pt x="1100" y="223"/>
                </a:cubicBezTo>
                <a:cubicBezTo>
                  <a:pt x="1060" y="246"/>
                  <a:pt x="1010" y="262"/>
                  <a:pt x="965" y="269"/>
                </a:cubicBezTo>
                <a:cubicBezTo>
                  <a:pt x="938" y="278"/>
                  <a:pt x="923" y="286"/>
                  <a:pt x="893" y="290"/>
                </a:cubicBezTo>
                <a:cubicBezTo>
                  <a:pt x="855" y="302"/>
                  <a:pt x="873" y="297"/>
                  <a:pt x="841" y="305"/>
                </a:cubicBezTo>
                <a:cubicBezTo>
                  <a:pt x="835" y="305"/>
                  <a:pt x="777" y="303"/>
                  <a:pt x="758" y="295"/>
                </a:cubicBezTo>
                <a:cubicBezTo>
                  <a:pt x="728" y="283"/>
                  <a:pt x="707" y="267"/>
                  <a:pt x="676" y="259"/>
                </a:cubicBezTo>
                <a:cubicBezTo>
                  <a:pt x="629" y="227"/>
                  <a:pt x="502" y="210"/>
                  <a:pt x="443" y="202"/>
                </a:cubicBezTo>
                <a:cubicBezTo>
                  <a:pt x="407" y="206"/>
                  <a:pt x="370" y="211"/>
                  <a:pt x="334" y="217"/>
                </a:cubicBezTo>
                <a:cubicBezTo>
                  <a:pt x="317" y="224"/>
                  <a:pt x="324" y="223"/>
                  <a:pt x="314" y="223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3600" y="2241720"/>
            <a:ext cx="3225960" cy="1379520"/>
          </a:xfrm>
          <a:custGeom>
            <a:avLst/>
            <a:gdLst/>
            <a:ahLst/>
            <a:rect l="l" t="t" r="r" b="b"/>
            <a:pathLst>
              <a:path w="2032" h="869">
                <a:moveTo>
                  <a:pt x="41" y="548"/>
                </a:moveTo>
                <a:cubicBezTo>
                  <a:pt x="64" y="533"/>
                  <a:pt x="77" y="511"/>
                  <a:pt x="103" y="502"/>
                </a:cubicBezTo>
                <a:cubicBezTo>
                  <a:pt x="123" y="484"/>
                  <a:pt x="153" y="475"/>
                  <a:pt x="176" y="460"/>
                </a:cubicBezTo>
                <a:cubicBezTo>
                  <a:pt x="201" y="444"/>
                  <a:pt x="219" y="426"/>
                  <a:pt x="248" y="419"/>
                </a:cubicBezTo>
                <a:cubicBezTo>
                  <a:pt x="270" y="404"/>
                  <a:pt x="295" y="389"/>
                  <a:pt x="320" y="383"/>
                </a:cubicBezTo>
                <a:cubicBezTo>
                  <a:pt x="354" y="352"/>
                  <a:pt x="430" y="325"/>
                  <a:pt x="476" y="316"/>
                </a:cubicBezTo>
                <a:cubicBezTo>
                  <a:pt x="500" y="306"/>
                  <a:pt x="511" y="299"/>
                  <a:pt x="538" y="295"/>
                </a:cubicBezTo>
                <a:cubicBezTo>
                  <a:pt x="585" y="280"/>
                  <a:pt x="628" y="271"/>
                  <a:pt x="677" y="264"/>
                </a:cubicBezTo>
                <a:cubicBezTo>
                  <a:pt x="755" y="269"/>
                  <a:pt x="825" y="287"/>
                  <a:pt x="900" y="305"/>
                </a:cubicBezTo>
                <a:cubicBezTo>
                  <a:pt x="969" y="343"/>
                  <a:pt x="1027" y="319"/>
                  <a:pt x="1117" y="316"/>
                </a:cubicBezTo>
                <a:cubicBezTo>
                  <a:pt x="1164" y="303"/>
                  <a:pt x="1210" y="289"/>
                  <a:pt x="1257" y="274"/>
                </a:cubicBezTo>
                <a:cubicBezTo>
                  <a:pt x="1277" y="261"/>
                  <a:pt x="1296" y="245"/>
                  <a:pt x="1319" y="238"/>
                </a:cubicBezTo>
                <a:cubicBezTo>
                  <a:pt x="1337" y="220"/>
                  <a:pt x="1353" y="208"/>
                  <a:pt x="1376" y="197"/>
                </a:cubicBezTo>
                <a:cubicBezTo>
                  <a:pt x="1404" y="166"/>
                  <a:pt x="1361" y="211"/>
                  <a:pt x="1407" y="176"/>
                </a:cubicBezTo>
                <a:cubicBezTo>
                  <a:pt x="1435" y="155"/>
                  <a:pt x="1430" y="148"/>
                  <a:pt x="1464" y="135"/>
                </a:cubicBezTo>
                <a:cubicBezTo>
                  <a:pt x="1493" y="104"/>
                  <a:pt x="1536" y="89"/>
                  <a:pt x="1572" y="67"/>
                </a:cubicBezTo>
                <a:cubicBezTo>
                  <a:pt x="1590" y="56"/>
                  <a:pt x="1604" y="37"/>
                  <a:pt x="1624" y="31"/>
                </a:cubicBezTo>
                <a:cubicBezTo>
                  <a:pt x="1634" y="28"/>
                  <a:pt x="1655" y="21"/>
                  <a:pt x="1655" y="21"/>
                </a:cubicBezTo>
                <a:cubicBezTo>
                  <a:pt x="1673" y="1"/>
                  <a:pt x="1701" y="4"/>
                  <a:pt x="1727" y="0"/>
                </a:cubicBezTo>
                <a:cubicBezTo>
                  <a:pt x="1790" y="6"/>
                  <a:pt x="1799" y="14"/>
                  <a:pt x="1851" y="31"/>
                </a:cubicBezTo>
                <a:cubicBezTo>
                  <a:pt x="1874" y="54"/>
                  <a:pt x="1847" y="30"/>
                  <a:pt x="1882" y="52"/>
                </a:cubicBezTo>
                <a:cubicBezTo>
                  <a:pt x="1903" y="66"/>
                  <a:pt x="1883" y="58"/>
                  <a:pt x="1903" y="73"/>
                </a:cubicBezTo>
                <a:cubicBezTo>
                  <a:pt x="1920" y="86"/>
                  <a:pt x="1942" y="102"/>
                  <a:pt x="1960" y="114"/>
                </a:cubicBezTo>
                <a:cubicBezTo>
                  <a:pt x="2005" y="182"/>
                  <a:pt x="2019" y="225"/>
                  <a:pt x="2032" y="305"/>
                </a:cubicBezTo>
                <a:cubicBezTo>
                  <a:pt x="2029" y="415"/>
                  <a:pt x="2028" y="522"/>
                  <a:pt x="2017" y="631"/>
                </a:cubicBezTo>
                <a:cubicBezTo>
                  <a:pt x="2013" y="672"/>
                  <a:pt x="2015" y="715"/>
                  <a:pt x="1991" y="750"/>
                </a:cubicBezTo>
                <a:cubicBezTo>
                  <a:pt x="1976" y="799"/>
                  <a:pt x="1930" y="832"/>
                  <a:pt x="1882" y="843"/>
                </a:cubicBezTo>
                <a:cubicBezTo>
                  <a:pt x="1846" y="869"/>
                  <a:pt x="1800" y="863"/>
                  <a:pt x="1758" y="869"/>
                </a:cubicBezTo>
                <a:cubicBezTo>
                  <a:pt x="1656" y="866"/>
                  <a:pt x="1599" y="863"/>
                  <a:pt x="1510" y="854"/>
                </a:cubicBezTo>
                <a:cubicBezTo>
                  <a:pt x="1460" y="840"/>
                  <a:pt x="1414" y="813"/>
                  <a:pt x="1365" y="797"/>
                </a:cubicBezTo>
                <a:cubicBezTo>
                  <a:pt x="1325" y="784"/>
                  <a:pt x="1278" y="776"/>
                  <a:pt x="1236" y="771"/>
                </a:cubicBezTo>
                <a:cubicBezTo>
                  <a:pt x="1199" y="759"/>
                  <a:pt x="1166" y="754"/>
                  <a:pt x="1127" y="750"/>
                </a:cubicBezTo>
                <a:cubicBezTo>
                  <a:pt x="1093" y="742"/>
                  <a:pt x="1059" y="735"/>
                  <a:pt x="1024" y="729"/>
                </a:cubicBezTo>
                <a:cubicBezTo>
                  <a:pt x="1014" y="727"/>
                  <a:pt x="1003" y="726"/>
                  <a:pt x="993" y="724"/>
                </a:cubicBezTo>
                <a:cubicBezTo>
                  <a:pt x="979" y="721"/>
                  <a:pt x="951" y="714"/>
                  <a:pt x="951" y="714"/>
                </a:cubicBezTo>
                <a:cubicBezTo>
                  <a:pt x="882" y="717"/>
                  <a:pt x="822" y="723"/>
                  <a:pt x="755" y="729"/>
                </a:cubicBezTo>
                <a:cubicBezTo>
                  <a:pt x="617" y="756"/>
                  <a:pt x="476" y="785"/>
                  <a:pt x="336" y="797"/>
                </a:cubicBezTo>
                <a:cubicBezTo>
                  <a:pt x="288" y="795"/>
                  <a:pt x="239" y="795"/>
                  <a:pt x="191" y="792"/>
                </a:cubicBezTo>
                <a:cubicBezTo>
                  <a:pt x="160" y="790"/>
                  <a:pt x="125" y="775"/>
                  <a:pt x="93" y="771"/>
                </a:cubicBezTo>
                <a:cubicBezTo>
                  <a:pt x="62" y="761"/>
                  <a:pt x="58" y="738"/>
                  <a:pt x="31" y="724"/>
                </a:cubicBezTo>
                <a:cubicBezTo>
                  <a:pt x="24" y="714"/>
                  <a:pt x="14" y="705"/>
                  <a:pt x="10" y="693"/>
                </a:cubicBezTo>
                <a:cubicBezTo>
                  <a:pt x="7" y="683"/>
                  <a:pt x="0" y="662"/>
                  <a:pt x="0" y="662"/>
                </a:cubicBezTo>
                <a:cubicBezTo>
                  <a:pt x="2" y="648"/>
                  <a:pt x="1" y="634"/>
                  <a:pt x="5" y="621"/>
                </a:cubicBezTo>
                <a:cubicBezTo>
                  <a:pt x="8" y="609"/>
                  <a:pt x="21" y="606"/>
                  <a:pt x="21" y="590"/>
                </a:cubicBezTo>
                <a:lnTo>
                  <a:pt x="41" y="54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" y="1314360"/>
            <a:ext cx="1032120" cy="1641600"/>
          </a:xfrm>
          <a:custGeom>
            <a:avLst/>
            <a:gdLst/>
            <a:ahLst/>
            <a:rect l="l" t="t" r="r" b="b"/>
            <a:pathLst>
              <a:path w="650" h="1034">
                <a:moveTo>
                  <a:pt x="517" y="25"/>
                </a:moveTo>
                <a:cubicBezTo>
                  <a:pt x="459" y="6"/>
                  <a:pt x="401" y="6"/>
                  <a:pt x="341" y="0"/>
                </a:cubicBezTo>
                <a:cubicBezTo>
                  <a:pt x="270" y="6"/>
                  <a:pt x="217" y="25"/>
                  <a:pt x="155" y="57"/>
                </a:cubicBezTo>
                <a:cubicBezTo>
                  <a:pt x="130" y="70"/>
                  <a:pt x="93" y="113"/>
                  <a:pt x="93" y="113"/>
                </a:cubicBezTo>
                <a:cubicBezTo>
                  <a:pt x="85" y="138"/>
                  <a:pt x="66" y="183"/>
                  <a:pt x="46" y="201"/>
                </a:cubicBezTo>
                <a:cubicBezTo>
                  <a:pt x="40" y="221"/>
                  <a:pt x="31" y="238"/>
                  <a:pt x="26" y="258"/>
                </a:cubicBezTo>
                <a:cubicBezTo>
                  <a:pt x="23" y="327"/>
                  <a:pt x="26" y="381"/>
                  <a:pt x="10" y="444"/>
                </a:cubicBezTo>
                <a:cubicBezTo>
                  <a:pt x="0" y="531"/>
                  <a:pt x="2" y="497"/>
                  <a:pt x="10" y="641"/>
                </a:cubicBezTo>
                <a:cubicBezTo>
                  <a:pt x="13" y="695"/>
                  <a:pt x="70" y="758"/>
                  <a:pt x="103" y="796"/>
                </a:cubicBezTo>
                <a:cubicBezTo>
                  <a:pt x="142" y="840"/>
                  <a:pt x="99" y="794"/>
                  <a:pt x="129" y="838"/>
                </a:cubicBezTo>
                <a:cubicBezTo>
                  <a:pt x="185" y="920"/>
                  <a:pt x="256" y="1010"/>
                  <a:pt x="357" y="1034"/>
                </a:cubicBezTo>
                <a:cubicBezTo>
                  <a:pt x="425" y="1029"/>
                  <a:pt x="451" y="1028"/>
                  <a:pt x="491" y="972"/>
                </a:cubicBezTo>
                <a:cubicBezTo>
                  <a:pt x="499" y="947"/>
                  <a:pt x="512" y="925"/>
                  <a:pt x="522" y="900"/>
                </a:cubicBezTo>
                <a:cubicBezTo>
                  <a:pt x="539" y="778"/>
                  <a:pt x="496" y="658"/>
                  <a:pt x="481" y="538"/>
                </a:cubicBezTo>
                <a:cubicBezTo>
                  <a:pt x="483" y="493"/>
                  <a:pt x="483" y="448"/>
                  <a:pt x="486" y="403"/>
                </a:cubicBezTo>
                <a:cubicBezTo>
                  <a:pt x="489" y="357"/>
                  <a:pt x="529" y="316"/>
                  <a:pt x="553" y="279"/>
                </a:cubicBezTo>
                <a:cubicBezTo>
                  <a:pt x="571" y="252"/>
                  <a:pt x="588" y="224"/>
                  <a:pt x="605" y="196"/>
                </a:cubicBezTo>
                <a:cubicBezTo>
                  <a:pt x="611" y="185"/>
                  <a:pt x="619" y="175"/>
                  <a:pt x="626" y="165"/>
                </a:cubicBezTo>
                <a:cubicBezTo>
                  <a:pt x="629" y="160"/>
                  <a:pt x="636" y="150"/>
                  <a:pt x="636" y="150"/>
                </a:cubicBezTo>
                <a:cubicBezTo>
                  <a:pt x="647" y="117"/>
                  <a:pt x="650" y="116"/>
                  <a:pt x="631" y="88"/>
                </a:cubicBezTo>
                <a:cubicBezTo>
                  <a:pt x="625" y="67"/>
                  <a:pt x="613" y="58"/>
                  <a:pt x="595" y="46"/>
                </a:cubicBezTo>
                <a:cubicBezTo>
                  <a:pt x="585" y="40"/>
                  <a:pt x="564" y="31"/>
                  <a:pt x="564" y="31"/>
                </a:cubicBezTo>
                <a:lnTo>
                  <a:pt x="517" y="25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Struktur des Internet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38858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Internet ist ein Zusammenschluß vieler verschiedener Ne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r Netzbetreiber ist für seinen Teilbereich zuständ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09480" y="1295280"/>
            <a:ext cx="8153640" cy="2362320"/>
            <a:chOff x="609480" y="1295280"/>
            <a:chExt cx="8153640" cy="2362320"/>
          </a:xfrm>
        </p:grpSpPr>
        <p:sp>
          <p:nvSpPr>
            <p:cNvPr id="210" name=""/>
            <p:cNvSpPr/>
            <p:nvPr/>
          </p:nvSpPr>
          <p:spPr>
            <a:xfrm flipH="1" flipV="1">
              <a:off x="6629040" y="3352320"/>
              <a:ext cx="7621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705720" y="1905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09480" y="1295280"/>
              <a:ext cx="8153640" cy="2362320"/>
              <a:chOff x="609480" y="1295280"/>
              <a:chExt cx="8153640" cy="2362320"/>
            </a:xfrm>
          </p:grpSpPr>
          <p:sp>
            <p:nvSpPr>
              <p:cNvPr id="213" name=""/>
              <p:cNvSpPr/>
              <p:nvPr/>
            </p:nvSpPr>
            <p:spPr>
              <a:xfrm flipH="1" flipV="1">
                <a:off x="3962520" y="3352320"/>
                <a:ext cx="7617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038480" y="1905120"/>
                <a:ext cx="457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09480" y="1295280"/>
                <a:ext cx="8153640" cy="2362320"/>
                <a:chOff x="609480" y="1295280"/>
                <a:chExt cx="8153640" cy="2362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543800" y="15238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657240" y="1447920"/>
                  <a:ext cx="30492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5486400" y="167652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5867280" y="1676520"/>
                  <a:ext cx="7632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6629400" y="2742840"/>
                  <a:ext cx="7632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>
                  <a:off x="8153280" y="1676520"/>
                  <a:ext cx="53352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>
                  <a:off x="7848720" y="32767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2514600" y="2514240"/>
                  <a:ext cx="53352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2209680" y="2971440"/>
                  <a:ext cx="7632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2209320" y="3124080"/>
                  <a:ext cx="83844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7543440" y="1676520"/>
                  <a:ext cx="60948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6705720" y="2133360"/>
                  <a:ext cx="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>
                  <a:off x="6400440" y="24379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6095880" y="2590560"/>
                  <a:ext cx="6098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>
                  <a:off x="7315200" y="3047760"/>
                  <a:ext cx="53352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7162920" y="1904760"/>
                  <a:ext cx="3808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1905120" y="289512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276360" y="2590920"/>
                  <a:ext cx="15228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1752120" y="2057400"/>
                  <a:ext cx="30492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62120" y="144792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1905120" y="1676520"/>
                  <a:ext cx="38088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2514600" y="2286000"/>
                  <a:ext cx="45720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6629040" y="1371600"/>
                  <a:ext cx="22860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1752480" y="2895480"/>
                  <a:ext cx="15264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77320" y="1981080"/>
                  <a:ext cx="7596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15200" y="3048120"/>
                  <a:ext cx="7632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43800" y="205740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6400440" y="1752480"/>
                  <a:ext cx="22860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904760" y="2438280"/>
                  <a:ext cx="15228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8534160" y="1981080"/>
                  <a:ext cx="15228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8152920" y="2438280"/>
                  <a:ext cx="38124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7848720" y="297180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7314840" y="2590920"/>
                  <a:ext cx="2286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3048120" y="2590920"/>
                  <a:ext cx="38088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2285640" y="2514600"/>
                  <a:ext cx="2286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2514240" y="1905120"/>
                  <a:ext cx="15228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2057040" y="1676520"/>
                  <a:ext cx="2286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990360" y="1447920"/>
                  <a:ext cx="7596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943600" y="1676520"/>
                  <a:ext cx="15228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95280" y="3124080"/>
                  <a:ext cx="4572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600200" y="2590920"/>
                  <a:ext cx="152280" cy="711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990720" y="28195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990720" y="1981080"/>
                  <a:ext cx="0" cy="81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990360" y="2590920"/>
                  <a:ext cx="609480" cy="203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990720" y="1803240"/>
                  <a:ext cx="457200" cy="177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447920" y="1803240"/>
                  <a:ext cx="152280" cy="71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914400" y="19051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371600" y="17272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14400" y="27176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209680" y="28954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209680" y="16002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23880" y="25146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781680" y="12952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828800" y="28195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24480" y="236232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086600" y="18288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629400" y="26668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467480" y="144792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077320" y="16002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01000" y="19051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772400" y="32004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15200" y="3505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077320" y="3505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90720" y="13716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676520" y="19810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828800" y="16765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81080" y="233676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90920" y="18288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38280" y="24382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29400" y="20318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33720" y="31240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895480" y="22096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71800" y="30481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53080" y="327672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238880" y="29718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077320" y="28954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610480" y="187956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467480" y="19810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67480" y="25146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458200" y="2362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867280" y="16002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219320" y="302256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53080" y="167652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85800" y="1600200"/>
                  <a:ext cx="76320" cy="76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85800" y="15238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9480" y="22860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3962520" y="2742840"/>
                  <a:ext cx="759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5181120" y="3276720"/>
                  <a:ext cx="30492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4876560" y="1676520"/>
                  <a:ext cx="60948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4038480" y="2133360"/>
                  <a:ext cx="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3733920" y="243792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3428640" y="2590560"/>
                  <a:ext cx="609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>
                  <a:off x="4647960" y="3047760"/>
                  <a:ext cx="53316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>
                  <a:off x="4495320" y="1904760"/>
                  <a:ext cx="3812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3962160" y="1371600"/>
                  <a:ext cx="22860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10080" y="1981080"/>
                  <a:ext cx="7632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648320" y="3048120"/>
                  <a:ext cx="7596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876920" y="205740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3733560" y="1752480"/>
                  <a:ext cx="22860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5486400" y="2438280"/>
                  <a:ext cx="38088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5181120" y="297180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47960" y="2590920"/>
                  <a:ext cx="2286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76720" y="1676520"/>
                  <a:ext cx="15228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114800" y="12952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52680" y="25146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57600" y="2362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19720" y="18288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962520" y="26668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1280" y="13716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10080" y="160020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334120" y="19051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105520" y="32004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48320" y="3505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410080" y="350532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962520" y="20318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886200" y="32767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72000" y="29718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10080" y="289548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200400" y="32004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00600" y="198108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800600" y="25146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91320" y="2362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200400" y="16002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86200" y="16765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676520" y="32004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A21-7684-461C-9850-E6267E13D9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143000" y="1828800"/>
          <a:ext cx="2759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2759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Dienste des Internets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orld Wide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ail - elektronische P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TP - Dateiübertra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 - 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t - Kommunikation in Echtz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87B-2CF3-4068-9B5A-66FB85DEB2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876920" y="2209680"/>
            <a:ext cx="358128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90720" y="1828800"/>
          <a:ext cx="2903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90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4567320" y="1599120"/>
            <a:ext cx="31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40000"/>
                </a:solidFill>
                <a:latin typeface="Arial"/>
              </a:rPr>
              <a:t>WWW - World Wid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eilter Hypertex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media Anwe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okoll: http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hypertext transfer protoco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ierte WWW-S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7A1-811A-4151-9920-8D3C372E1C6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4"/>
                </a:solidFill>
                <a:latin typeface="Tahoma"/>
              </a:rPr>
              <a:t>Was ist das WWW?</a:t>
            </a:r>
            <a:endParaRPr b="1" lang="en-US" sz="2800" spc="-1" strike="noStrike">
              <a:solidFill>
                <a:srgbClr val="000094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7009560" y="159912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00"/>
                </a:solidFill>
                <a:latin typeface="Arial"/>
              </a:rPr>
              <a:t>Hyp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43040" y="1200240"/>
            <a:ext cx="6388560" cy="4705200"/>
            <a:chOff x="743040" y="1200240"/>
            <a:chExt cx="6388560" cy="4705200"/>
          </a:xfrm>
        </p:grpSpPr>
        <p:grpSp>
          <p:nvGrpSpPr>
            <p:cNvPr id="355" name=""/>
            <p:cNvGrpSpPr/>
            <p:nvPr/>
          </p:nvGrpSpPr>
          <p:grpSpPr>
            <a:xfrm>
              <a:off x="743040" y="1200240"/>
              <a:ext cx="6114960" cy="4705200"/>
              <a:chOff x="743040" y="1200240"/>
              <a:chExt cx="6114960" cy="4705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438800" y="3067200"/>
                <a:ext cx="2419200" cy="2838240"/>
              </a:xfrm>
              <a:prstGeom prst="rect">
                <a:avLst/>
              </a:prstGeom>
              <a:solidFill>
                <a:srgbClr val="cc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3040" y="1200240"/>
                <a:ext cx="2685960" cy="4248000"/>
              </a:xfrm>
              <a:prstGeom prst="rect">
                <a:avLst/>
              </a:prstGeom>
              <a:solidFill>
                <a:srgbClr val="cc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847480" y="1599120"/>
              <a:ext cx="12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40000"/>
                  </a:solidFill>
                  <a:latin typeface="Arial"/>
                </a:rPr>
                <a:t>Verte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069920" y="1567080"/>
            <a:ext cx="5222880" cy="3732120"/>
            <a:chOff x="1069920" y="1567080"/>
            <a:chExt cx="5222880" cy="3732120"/>
          </a:xfrm>
        </p:grpSpPr>
        <p:sp>
          <p:nvSpPr>
            <p:cNvPr id="360" name=""/>
            <p:cNvSpPr/>
            <p:nvPr/>
          </p:nvSpPr>
          <p:spPr>
            <a:xfrm>
              <a:off x="1069920" y="1567080"/>
              <a:ext cx="1336680" cy="169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Tezwut ru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uwe </a:t>
              </a: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zqwui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iweu rqzz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hlhlkh</a:t>
              </a: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 hh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iozuou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gllglglllllgllg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6120" y="3605760"/>
              <a:ext cx="1336680" cy="169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Tezwut ru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uwe</a:t>
              </a: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 zqwui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iweu rqzz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hlhlkh hh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iozuou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gllglglllllgllg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51120" y="3624480"/>
            <a:ext cx="3177720" cy="1693440"/>
            <a:chOff x="1851120" y="3624480"/>
            <a:chExt cx="3177720" cy="1693440"/>
          </a:xfrm>
        </p:grpSpPr>
        <p:sp>
          <p:nvSpPr>
            <p:cNvPr id="363" name=""/>
            <p:cNvSpPr/>
            <p:nvPr/>
          </p:nvSpPr>
          <p:spPr>
            <a:xfrm>
              <a:off x="1851120" y="3624480"/>
              <a:ext cx="1336680" cy="169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Tezwut ru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uwe </a:t>
              </a: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zqwui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iweu rqzz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hlhlkh hh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iozuou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gllglgl </a:t>
              </a: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Tahoma"/>
                </a:rPr>
                <a:t>lllgllg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3219120" y="3905280"/>
              <a:ext cx="1809720" cy="13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858320" y="1345320"/>
            <a:ext cx="4870080" cy="2071800"/>
            <a:chOff x="1858320" y="1345320"/>
            <a:chExt cx="4870080" cy="2071800"/>
          </a:xfrm>
        </p:grpSpPr>
        <p:sp>
          <p:nvSpPr>
            <p:cNvPr id="366" name=""/>
            <p:cNvSpPr/>
            <p:nvPr/>
          </p:nvSpPr>
          <p:spPr>
            <a:xfrm>
              <a:off x="5401800" y="3174120"/>
              <a:ext cx="1326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WWW-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58320" y="1345320"/>
              <a:ext cx="1326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2"/>
                  </a:solidFill>
                  <a:latin typeface="Tahoma"/>
                </a:rPr>
                <a:t>WWW-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333440" y="2647800"/>
            <a:ext cx="6210360" cy="2476440"/>
            <a:chOff x="1333440" y="2647800"/>
            <a:chExt cx="6210360" cy="2476440"/>
          </a:xfrm>
        </p:grpSpPr>
        <p:sp>
          <p:nvSpPr>
            <p:cNvPr id="369" name=""/>
            <p:cNvSpPr/>
            <p:nvPr/>
          </p:nvSpPr>
          <p:spPr>
            <a:xfrm>
              <a:off x="1333440" y="2647800"/>
              <a:ext cx="514440" cy="1143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124080" y="4533480"/>
              <a:ext cx="1809720" cy="59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715000" y="4190760"/>
              <a:ext cx="1828800" cy="64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6000" y="1656720"/>
            <a:ext cx="2944800" cy="2000880"/>
            <a:chOff x="2286000" y="1656720"/>
            <a:chExt cx="2944800" cy="2000880"/>
          </a:xfrm>
        </p:grpSpPr>
        <p:sp>
          <p:nvSpPr>
            <p:cNvPr id="373" name=""/>
            <p:cNvSpPr/>
            <p:nvPr/>
          </p:nvSpPr>
          <p:spPr>
            <a:xfrm>
              <a:off x="2286000" y="2038320"/>
              <a:ext cx="261000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1920" y="1656720"/>
              <a:ext cx="1388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2"/>
                  </a:solidFill>
                  <a:latin typeface="Tahoma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772080" y="1924200"/>
              <a:ext cx="590400" cy="9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BB4-B2ED-4E4A-A5B2-4831C7A15F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4T07:57:06Z</dcterms:created>
  <dc:creator>Mitro</dc:creator>
  <dc:description/>
  <dc:language>en-US</dc:language>
  <cp:lastModifiedBy>Franz Rohmer</cp:lastModifiedBy>
  <cp:lastPrinted>1998-04-13T12:33:16Z</cp:lastPrinted>
  <dcterms:modified xsi:type="dcterms:W3CDTF">1999-09-09T22:22:28Z</dcterms:modified>
  <cp:revision>277</cp:revision>
  <dc:subject/>
  <dc:title>Recherchieren im WWW</dc:title>
</cp:coreProperties>
</file>