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0C3E-DC89-45BF-92BA-8917D0EA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F109-E58F-4BD5-AFC9-371A5E3E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2AEA-18F3-41CB-AB7D-65CFC38E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1D7-E628-4B46-97B1-EA971F25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D948-2241-432D-91C1-757C0656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C358-9821-4E9E-A807-955CC122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A290-7B49-47C1-9313-5EF17A16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8A3-780E-47DA-94D8-25531BE9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76B6-3048-44CC-89A7-354485CE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5AE6-599B-4041-B66D-DCEA83FA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6522-91DA-43E4-8CDD-A8A1968F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9283-51A6-4658-A5A6-39AFAE59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85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9347-2E61-4FAD-8538-9728B7D9D16B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12AF29B-4367-4B10-8988-13C708097666}" type="datetime10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3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83BA-7207-43FD-B43E-98A4C6235D2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248520"/>
            <a:ext cx="3049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" name=""/>
          <p:cNvCxnSpPr/>
          <p:nvPr/>
        </p:nvCxnSpPr>
        <p:spPr>
          <a:xfrm flipH="1" flipV="1" rot="5400000">
            <a:off x="56520" y="5886000"/>
            <a:ext cx="610560" cy="11484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" name=""/>
          <p:cNvSpPr/>
          <p:nvPr/>
        </p:nvSpPr>
        <p:spPr>
          <a:xfrm>
            <a:off x="304920" y="54100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48769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45720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426708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52280" y="39625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" name=""/>
          <p:cNvCxnSpPr/>
          <p:nvPr/>
        </p:nvCxnSpPr>
        <p:spPr>
          <a:xfrm flipV="1" rot="16200000">
            <a:off x="190080" y="5180760"/>
            <a:ext cx="41976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3" name=""/>
          <p:cNvCxnSpPr/>
          <p:nvPr/>
        </p:nvCxnSpPr>
        <p:spPr>
          <a:xfrm flipV="1" rot="16200000">
            <a:off x="37800" y="5028480"/>
            <a:ext cx="72432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4" name=""/>
          <p:cNvCxnSpPr/>
          <p:nvPr/>
        </p:nvCxnSpPr>
        <p:spPr>
          <a:xfrm flipV="1" rot="16200000">
            <a:off x="-114480" y="4875840"/>
            <a:ext cx="102888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5" name=""/>
          <p:cNvCxnSpPr/>
          <p:nvPr/>
        </p:nvCxnSpPr>
        <p:spPr>
          <a:xfrm flipV="1" rot="16200000">
            <a:off x="-267120" y="4723560"/>
            <a:ext cx="133416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16" name=""/>
          <p:cNvSpPr/>
          <p:nvPr/>
        </p:nvSpPr>
        <p:spPr>
          <a:xfrm>
            <a:off x="8610480" y="5562720"/>
            <a:ext cx="38124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" name=""/>
          <p:cNvCxnSpPr/>
          <p:nvPr/>
        </p:nvCxnSpPr>
        <p:spPr>
          <a:xfrm flipV="1">
            <a:off x="457200" y="5943240"/>
            <a:ext cx="8344800" cy="457920"/>
          </a:xfrm>
          <a:prstGeom prst="bentConnector2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8" name=""/>
          <p:cNvCxnSpPr/>
          <p:nvPr/>
        </p:nvCxnSpPr>
        <p:spPr>
          <a:xfrm flipV="1" rot="16200000">
            <a:off x="6324120" y="3085560"/>
            <a:ext cx="4610880" cy="343800"/>
          </a:xfrm>
          <a:prstGeom prst="bentConnector2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Schlußwor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A1EF-6B4D-4B0C-9564-36B9544E67E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C82E8-F3BA-4341-84E9-28B82DC53561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Zeitschrifte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´t, Heise Ver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mputerb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ww.heise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ww.gn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2D75-C330-4304-A41B-A8341AAE5FA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6FACF-A55F-4314-B864-3A7B631AD6C6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Weitere Kur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ternet für Fortgeschritt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hrere Seiten gestal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führliche Informationen zu bestimmten, selbst gewählten Inhal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weiterte Suchtechni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grammierspr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ktive Inhalte in Webs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20054" r="0" b="19783"/>
          <a:stretch/>
        </p:blipFill>
        <p:spPr>
          <a:xfrm>
            <a:off x="6400800" y="2394000"/>
            <a:ext cx="1905120" cy="779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400800" y="1523880"/>
            <a:ext cx="1905120" cy="78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0516-B70C-4AE4-85A2-CCEF302E01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FD660-6CC7-4423-8A65-A9B99E25BFA8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Workshop - Theme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usik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chr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i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k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mputer &amp;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h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ultimedia in WW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u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ui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ltra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0696-8239-40AB-B9A7-29819F5E4EBB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EE93B-D653-48CF-A6D8-38A02F3F3F41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Wie war´s?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e hat es Ihnen gefal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hat gefehl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valuationsb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tte mit persönlichem Komme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anony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9CF0-4E64-4448-8A58-6E1D6D96D7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ADDB5-D542-4D5D-9AA0-7FF95E147E64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Das Leben danach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ch stehe Ihnen auch gerne noch nach dem Kurs zur Verfüg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nn zuhause noch Fragen auftr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nn weiterer Schulungsbedarf beste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r E-Mail: olaf@altenforst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telefonis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9CF4-C134-44C0-958B-68FE59DA5B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EF068-A9EF-4E55-8077-1DA979955FD4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Vielen Dank...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..und auf Wiederseh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hr Olaf Schmid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9151-0F72-44D3-A518-78251C0DE8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0267B-0D2B-47DE-BA5B-4E4765B4C28A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8T18:05:19Z</dcterms:created>
  <dc:creator>Olaf Schmidt</dc:creator>
  <dc:description/>
  <dc:language>en-US</dc:language>
  <cp:lastModifiedBy>Olaf Schmidt</cp:lastModifiedBy>
  <dcterms:modified xsi:type="dcterms:W3CDTF">1999-04-23T19:46:15Z</dcterms:modified>
  <cp:revision>6</cp:revision>
  <dc:subject/>
  <dc:title>Schlußwort</dc:title>
</cp:coreProperties>
</file>