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C0B5E-1215-41F1-9DF5-8F0D92FB9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5698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5ACFA-7376-49F7-9F57-D6FBEDD54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5698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FB4B9-EF9A-478F-A313-CDF27B058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5698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6DED4-5A70-4CF2-A822-92982FF36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5698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8B61A-DE23-4C79-97C0-A9AB26086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5698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E0CC8-98DE-4E3C-A087-8233F79F3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5698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E2F7E-A2C4-4C2E-82D8-9FCA1AFD5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698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E05DE-0673-46F1-88F6-72E77EEC2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EC1C0-CFBE-4C32-B9E2-5920B7FF4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5698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57585-94C7-4C52-A643-767B56732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5698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B05F4-B912-48EC-8780-238559829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5698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A774C-AA66-4182-AF14-F67EA5B24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6680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8584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961DF-E807-4391-ADEF-E6BBCBFBE6D4}" type="datetime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1D0D9A75-6076-4708-B810-66EF88D0D2DA}" type="datetime10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23:13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00440"/>
            <a:ext cx="2895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DC76C-D635-45B8-9961-3F2AA1ED1E71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6248520"/>
            <a:ext cx="304920" cy="3045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" name=""/>
          <p:cNvCxnSpPr/>
          <p:nvPr/>
        </p:nvCxnSpPr>
        <p:spPr>
          <a:xfrm flipH="1" flipV="1" rot="5400000">
            <a:off x="56520" y="5886000"/>
            <a:ext cx="610560" cy="11484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7" name=""/>
          <p:cNvSpPr/>
          <p:nvPr/>
        </p:nvSpPr>
        <p:spPr>
          <a:xfrm>
            <a:off x="304920" y="541008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152280" y="4876920"/>
            <a:ext cx="228600" cy="228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4572000"/>
            <a:ext cx="228600" cy="228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152280" y="4267080"/>
            <a:ext cx="228600" cy="228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152280" y="3962520"/>
            <a:ext cx="228600" cy="228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" name=""/>
          <p:cNvCxnSpPr/>
          <p:nvPr/>
        </p:nvCxnSpPr>
        <p:spPr>
          <a:xfrm flipV="1" rot="16200000">
            <a:off x="190080" y="5180760"/>
            <a:ext cx="419760" cy="38880"/>
          </a:xfrm>
          <a:prstGeom prst="bentConnector2">
            <a:avLst/>
          </a:prstGeom>
          <a:ln w="9360">
            <a:solidFill>
              <a:srgbClr val="ff0000"/>
            </a:solidFill>
            <a:miter/>
          </a:ln>
        </p:spPr>
      </p:cxnSp>
      <p:cxnSp>
        <p:nvCxnSpPr>
          <p:cNvPr id="13" name=""/>
          <p:cNvCxnSpPr/>
          <p:nvPr/>
        </p:nvCxnSpPr>
        <p:spPr>
          <a:xfrm flipV="1" rot="16200000">
            <a:off x="37800" y="5028480"/>
            <a:ext cx="724320" cy="38880"/>
          </a:xfrm>
          <a:prstGeom prst="bentConnector2">
            <a:avLst/>
          </a:prstGeom>
          <a:ln w="9360">
            <a:solidFill>
              <a:srgbClr val="ff0000"/>
            </a:solidFill>
            <a:miter/>
          </a:ln>
        </p:spPr>
      </p:cxnSp>
      <p:cxnSp>
        <p:nvCxnSpPr>
          <p:cNvPr id="14" name=""/>
          <p:cNvCxnSpPr/>
          <p:nvPr/>
        </p:nvCxnSpPr>
        <p:spPr>
          <a:xfrm flipV="1" rot="16200000">
            <a:off x="-114480" y="4875840"/>
            <a:ext cx="1028880" cy="38880"/>
          </a:xfrm>
          <a:prstGeom prst="bentConnector2">
            <a:avLst/>
          </a:prstGeom>
          <a:ln w="9360">
            <a:solidFill>
              <a:srgbClr val="ff0000"/>
            </a:solidFill>
            <a:miter/>
          </a:ln>
        </p:spPr>
      </p:cxnSp>
      <p:cxnSp>
        <p:nvCxnSpPr>
          <p:cNvPr id="15" name=""/>
          <p:cNvCxnSpPr/>
          <p:nvPr/>
        </p:nvCxnSpPr>
        <p:spPr>
          <a:xfrm flipV="1" rot="16200000">
            <a:off x="-267120" y="4723560"/>
            <a:ext cx="1334160" cy="38880"/>
          </a:xfrm>
          <a:prstGeom prst="bentConnector2">
            <a:avLst/>
          </a:prstGeom>
          <a:ln w="9360">
            <a:solidFill>
              <a:srgbClr val="ff0000"/>
            </a:solidFill>
            <a:miter/>
          </a:ln>
        </p:spPr>
      </p:cxnSp>
      <p:sp>
        <p:nvSpPr>
          <p:cNvPr id="16" name=""/>
          <p:cNvSpPr/>
          <p:nvPr/>
        </p:nvSpPr>
        <p:spPr>
          <a:xfrm>
            <a:off x="8610480" y="5562720"/>
            <a:ext cx="381240" cy="3808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" name=""/>
          <p:cNvCxnSpPr/>
          <p:nvPr/>
        </p:nvCxnSpPr>
        <p:spPr>
          <a:xfrm flipV="1">
            <a:off x="457200" y="5943240"/>
            <a:ext cx="8344800" cy="457920"/>
          </a:xfrm>
          <a:prstGeom prst="bentConnector2">
            <a:avLst/>
          </a:prstGeom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</p:cxnSp>
      <p:cxnSp>
        <p:nvCxnSpPr>
          <p:cNvPr id="18" name=""/>
          <p:cNvCxnSpPr/>
          <p:nvPr/>
        </p:nvCxnSpPr>
        <p:spPr>
          <a:xfrm flipV="1" rot="16200000">
            <a:off x="6324120" y="3085560"/>
            <a:ext cx="4610880" cy="343800"/>
          </a:xfrm>
          <a:prstGeom prst="bentConnector2">
            <a:avLst/>
          </a:prstGeom>
          <a:ln w="3240">
            <a:solidFill>
              <a:srgbClr val="ff0000"/>
            </a:solidFill>
            <a:miter/>
            <a:tailEnd len="med" type="triangle" w="med"/>
          </a:ln>
        </p:spPr>
      </p:cxn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3333cc"/>
                </a:solidFill>
                <a:latin typeface="Arial"/>
              </a:rPr>
              <a:t>Zugang und Kosten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Wie schließe ich mich a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Was kostet der Spaß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et für Anfänger - Olaf Schmid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20164-381D-4EB9-94C7-21DD96B2624C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35612F-6D4C-4E1D-81FB-A696B8DCE8A3}" type="datetime8">
              <a:rPr lang="en-US"/>
              <a:t>07/28/26 23: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3333cc"/>
                </a:solidFill>
                <a:latin typeface="Arial"/>
              </a:rPr>
              <a:t>Mein Anschluß zuhause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2120" y="1905120"/>
            <a:ext cx="1676160" cy="1218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486400" y="1905120"/>
            <a:ext cx="1905120" cy="1218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95480" y="4495680"/>
            <a:ext cx="2057400" cy="1143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Provi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4952520" y="4267080"/>
            <a:ext cx="3582000" cy="1981440"/>
            <a:chOff x="4952520" y="4267080"/>
            <a:chExt cx="3582000" cy="1981440"/>
          </a:xfrm>
        </p:grpSpPr>
        <p:sp>
          <p:nvSpPr>
            <p:cNvPr id="62" name=""/>
            <p:cNvSpPr/>
            <p:nvPr/>
          </p:nvSpPr>
          <p:spPr>
            <a:xfrm>
              <a:off x="6095880" y="4267080"/>
              <a:ext cx="2438640" cy="1981440"/>
            </a:xfrm>
            <a:prstGeom prst="irregularSeal1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3200" spc="-1" strike="noStrike">
                  <a:solidFill>
                    <a:srgbClr val="000000"/>
                  </a:solidFill>
                  <a:latin typeface="Arial"/>
                </a:rPr>
                <a:t>Interne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3" name=""/>
            <p:cNvCxnSpPr>
              <a:stCxn id="60" idx="3"/>
              <a:endCxn id="62" idx="1"/>
            </p:cNvCxnSpPr>
            <p:nvPr/>
          </p:nvCxnSpPr>
          <p:spPr>
            <a:xfrm flipV="1">
              <a:off x="4952520" y="5056920"/>
              <a:ext cx="1143720" cy="1044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000000"/>
              </a:solidFill>
              <a:miter/>
            </a:ln>
          </p:spPr>
        </p:cxnSp>
      </p:grpSp>
      <p:sp>
        <p:nvSpPr>
          <p:cNvPr id="64" name=""/>
          <p:cNvSpPr/>
          <p:nvPr/>
        </p:nvSpPr>
        <p:spPr>
          <a:xfrm>
            <a:off x="838080" y="3581280"/>
            <a:ext cx="77724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2437920" y="2514240"/>
            <a:ext cx="3048480" cy="838440"/>
            <a:chOff x="2437920" y="2514240"/>
            <a:chExt cx="3048480" cy="838440"/>
          </a:xfrm>
        </p:grpSpPr>
        <p:cxnSp>
          <p:nvCxnSpPr>
            <p:cNvPr id="66" name=""/>
            <p:cNvCxnSpPr/>
            <p:nvPr/>
          </p:nvCxnSpPr>
          <p:spPr>
            <a:xfrm>
              <a:off x="2437920" y="2514240"/>
              <a:ext cx="3048840" cy="1080"/>
            </a:xfrm>
            <a:prstGeom prst="bentConnector2">
              <a:avLst/>
            </a:prstGeom>
            <a:ln w="38160">
              <a:solidFill>
                <a:srgbClr val="000000"/>
              </a:solidFill>
              <a:miter/>
            </a:ln>
          </p:spPr>
        </p:cxnSp>
        <p:sp>
          <p:nvSpPr>
            <p:cNvPr id="67" name=""/>
            <p:cNvSpPr/>
            <p:nvPr/>
          </p:nvSpPr>
          <p:spPr>
            <a:xfrm>
              <a:off x="2666880" y="2819520"/>
              <a:ext cx="1828800" cy="533160"/>
            </a:xfrm>
            <a:prstGeom prst="wedgeRoundRectCallout">
              <a:avLst>
                <a:gd name="adj1" fmla="val 21356"/>
                <a:gd name="adj2" fmla="val -104763"/>
                <a:gd name="adj3" fmla="val 16667"/>
              </a:avLst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ff0000"/>
                  </a:solidFill>
                  <a:latin typeface="Arial"/>
                </a:rPr>
                <a:t>Serielles Kabe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" name=""/>
          <p:cNvGrpSpPr/>
          <p:nvPr/>
        </p:nvGrpSpPr>
        <p:grpSpPr>
          <a:xfrm>
            <a:off x="3923640" y="3124080"/>
            <a:ext cx="4686840" cy="1371960"/>
            <a:chOff x="3923640" y="3124080"/>
            <a:chExt cx="4686840" cy="1371960"/>
          </a:xfrm>
        </p:grpSpPr>
        <p:cxnSp>
          <p:nvCxnSpPr>
            <p:cNvPr id="69" name=""/>
            <p:cNvCxnSpPr/>
            <p:nvPr/>
          </p:nvCxnSpPr>
          <p:spPr>
            <a:xfrm rot="5400000">
              <a:off x="4494960" y="2552400"/>
              <a:ext cx="1372320" cy="2515320"/>
            </a:xfrm>
            <a:prstGeom prst="bentConnector3">
              <a:avLst>
                <a:gd name="adj1" fmla="val 49986"/>
              </a:avLst>
            </a:prstGeom>
            <a:ln w="38160">
              <a:solidFill>
                <a:srgbClr val="000000"/>
              </a:solidFill>
              <a:miter/>
            </a:ln>
          </p:spPr>
        </p:cxnSp>
        <p:sp>
          <p:nvSpPr>
            <p:cNvPr id="70" name=""/>
            <p:cNvSpPr/>
            <p:nvPr/>
          </p:nvSpPr>
          <p:spPr>
            <a:xfrm>
              <a:off x="7238880" y="3733920"/>
              <a:ext cx="1371600" cy="457200"/>
            </a:xfrm>
            <a:prstGeom prst="wedgeRoundRectCallout">
              <a:avLst>
                <a:gd name="adj1" fmla="val -108449"/>
                <a:gd name="adj2" fmla="val -42013"/>
                <a:gd name="adj3" fmla="val 16667"/>
              </a:avLst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ff0000"/>
                  </a:solidFill>
                  <a:latin typeface="Arial"/>
                </a:rPr>
                <a:t>Telefonleitu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et für Anfänger - Olaf Schmid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6C5F5-210D-427A-AA7A-3E4573EF560C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096F11-A5EB-4AFA-8175-5C370A8A53E8}" type="datetime8">
              <a:rPr lang="en-US"/>
              <a:t>07/28/26 23: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3333cc"/>
                </a:solidFill>
                <a:latin typeface="Arial"/>
              </a:rPr>
              <a:t>Vorraussetzungen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Hard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6680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entium 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680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680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32 MB 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680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50 MB Plattenplat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6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680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odem 56 kBit/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680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SDN Kar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796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6680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etscape 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680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ternet Explor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6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680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vom Provider auf CDRom bezieh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680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.d.R. kostenl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et für Anfänger - Olaf Schmidt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320E9-6D8A-43BB-B237-606B3BF59DDC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80E35C-839A-4C33-8480-7775572F607A}" type="datetime8">
              <a:rPr lang="en-US"/>
              <a:t>07/28/26 23: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3333cc"/>
                </a:solidFill>
                <a:latin typeface="Arial"/>
              </a:rPr>
              <a:t>Provider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219320" y="1676520"/>
            <a:ext cx="1557360" cy="10555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6705720" y="2971800"/>
            <a:ext cx="1277640" cy="5857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1219320" y="2971800"/>
            <a:ext cx="2819160" cy="5382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4"/>
          <a:stretch/>
        </p:blipFill>
        <p:spPr>
          <a:xfrm>
            <a:off x="6781680" y="1676520"/>
            <a:ext cx="1103400" cy="9954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5"/>
          <a:stretch/>
        </p:blipFill>
        <p:spPr>
          <a:xfrm>
            <a:off x="1219320" y="5486400"/>
            <a:ext cx="1746000" cy="3715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6"/>
          <a:stretch/>
        </p:blipFill>
        <p:spPr>
          <a:xfrm>
            <a:off x="3581280" y="5105520"/>
            <a:ext cx="1571760" cy="96516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7"/>
          <a:stretch/>
        </p:blipFill>
        <p:spPr>
          <a:xfrm>
            <a:off x="5791320" y="5307120"/>
            <a:ext cx="1981080" cy="655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et für Anfänger - Olaf Schmid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357D1-7D6C-4B63-9A66-28ECD7D8E958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219883-59E0-4831-8BCA-699E346E0D47}" type="datetime8">
              <a:rPr lang="en-US"/>
              <a:t>07/28/26 23: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3333cc"/>
                </a:solidFill>
                <a:latin typeface="Arial"/>
              </a:rPr>
              <a:t>Kosten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762120" y="2057400"/>
          <a:ext cx="7702560" cy="3129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057400"/>
                    <a:ext cx="7702560" cy="312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et für Anfänger - Olaf Schmid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C0294-9930-43FE-ADB2-368DD58F7C6E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B6E822-AF86-4031-B6C6-B5F31491BC6C}" type="datetime8">
              <a:rPr lang="en-US"/>
              <a:t>07/28/26 23: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3333cc"/>
                </a:solidFill>
                <a:latin typeface="Arial"/>
              </a:rPr>
              <a:t>Zugang einrichten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DFÜ-Netzwe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4796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et für Anfänger - Olaf Schmidt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F4552-FDA6-4761-81A4-401D4CB18690}" type="slidenum">
              <a:t>6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B20557-2A75-47D9-8BC4-92EEC666B0BA}" type="datetime8">
              <a:rPr lang="en-US"/>
              <a:t>07/28/26 23: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3333cc"/>
                </a:solidFill>
                <a:latin typeface="Arial"/>
              </a:rPr>
              <a:t>Anschluß eines LAN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1143000" y="1905120"/>
            <a:ext cx="878400" cy="3797640"/>
            <a:chOff x="1143000" y="1905120"/>
            <a:chExt cx="878400" cy="3797640"/>
          </a:xfrm>
        </p:grpSpPr>
        <p:sp>
          <p:nvSpPr>
            <p:cNvPr id="90" name=""/>
            <p:cNvSpPr/>
            <p:nvPr/>
          </p:nvSpPr>
          <p:spPr>
            <a:xfrm>
              <a:off x="1143000" y="1905120"/>
              <a:ext cx="304920" cy="3045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143000" y="2590920"/>
              <a:ext cx="304920" cy="3045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143000" y="3276720"/>
              <a:ext cx="304920" cy="3045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43000" y="3962520"/>
              <a:ext cx="304920" cy="3045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143000" y="4648320"/>
              <a:ext cx="304920" cy="3045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185480" y="5121360"/>
              <a:ext cx="835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3200" spc="-1" strike="noStrike">
                  <a:solidFill>
                    <a:srgbClr val="000000"/>
                  </a:solidFill>
                  <a:latin typeface="Times New Roman"/>
                </a:rPr>
                <a:t>PC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1447200" y="2057040"/>
            <a:ext cx="2478960" cy="2837520"/>
            <a:chOff x="1447200" y="2057040"/>
            <a:chExt cx="2478960" cy="2837520"/>
          </a:xfrm>
        </p:grpSpPr>
        <p:sp>
          <p:nvSpPr>
            <p:cNvPr id="97" name=""/>
            <p:cNvSpPr/>
            <p:nvPr/>
          </p:nvSpPr>
          <p:spPr>
            <a:xfrm>
              <a:off x="2514600" y="2895480"/>
              <a:ext cx="914400" cy="838440"/>
            </a:xfrm>
            <a:prstGeom prst="cube">
              <a:avLst>
                <a:gd name="adj" fmla="val 25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98" name=""/>
            <p:cNvCxnSpPr>
              <a:stCxn id="97" idx="2"/>
              <a:endCxn id="90" idx="3"/>
            </p:cNvCxnSpPr>
            <p:nvPr/>
          </p:nvCxnSpPr>
          <p:spPr>
            <a:xfrm rot="10800000">
              <a:off x="1447200" y="2056680"/>
              <a:ext cx="1067400" cy="1362960"/>
            </a:xfrm>
            <a:prstGeom prst="bentConnector3">
              <a:avLst>
                <a:gd name="adj1" fmla="val 50000"/>
              </a:avLst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99" name=""/>
            <p:cNvCxnSpPr>
              <a:stCxn id="97" idx="2"/>
              <a:endCxn id="91" idx="3"/>
            </p:cNvCxnSpPr>
            <p:nvPr/>
          </p:nvCxnSpPr>
          <p:spPr>
            <a:xfrm rot="10800000">
              <a:off x="1447200" y="2742480"/>
              <a:ext cx="1067400" cy="677160"/>
            </a:xfrm>
            <a:prstGeom prst="bentConnector3">
              <a:avLst>
                <a:gd name="adj1" fmla="val 50000"/>
              </a:avLst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100" name=""/>
            <p:cNvCxnSpPr>
              <a:stCxn id="97" idx="2"/>
              <a:endCxn id="92" idx="3"/>
            </p:cNvCxnSpPr>
            <p:nvPr/>
          </p:nvCxnSpPr>
          <p:spPr>
            <a:xfrm flipV="1" rot="10800000">
              <a:off x="1447200" y="3419280"/>
              <a:ext cx="1067400" cy="10080"/>
            </a:xfrm>
            <a:prstGeom prst="bentConnector3">
              <a:avLst>
                <a:gd name="adj1" fmla="val 50000"/>
              </a:avLst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101" name=""/>
            <p:cNvCxnSpPr>
              <a:stCxn id="97" idx="2"/>
              <a:endCxn id="93" idx="3"/>
            </p:cNvCxnSpPr>
            <p:nvPr/>
          </p:nvCxnSpPr>
          <p:spPr>
            <a:xfrm flipV="1" rot="10800000">
              <a:off x="1447200" y="3418200"/>
              <a:ext cx="1067400" cy="695520"/>
            </a:xfrm>
            <a:prstGeom prst="bentConnector3">
              <a:avLst>
                <a:gd name="adj1" fmla="val 50000"/>
              </a:avLst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102" name=""/>
            <p:cNvCxnSpPr>
              <a:stCxn id="97" idx="2"/>
              <a:endCxn id="94" idx="3"/>
            </p:cNvCxnSpPr>
            <p:nvPr/>
          </p:nvCxnSpPr>
          <p:spPr>
            <a:xfrm flipV="1" rot="10800000">
              <a:off x="1447200" y="3419280"/>
              <a:ext cx="1067400" cy="1381680"/>
            </a:xfrm>
            <a:prstGeom prst="bentConnector3">
              <a:avLst>
                <a:gd name="adj1" fmla="val 50000"/>
              </a:avLst>
            </a:prstGeom>
            <a:ln w="19080">
              <a:solidFill>
                <a:srgbClr val="000000"/>
              </a:solidFill>
              <a:miter/>
            </a:ln>
          </p:spPr>
        </p:cxnSp>
        <p:sp>
          <p:nvSpPr>
            <p:cNvPr id="103" name=""/>
            <p:cNvSpPr/>
            <p:nvPr/>
          </p:nvSpPr>
          <p:spPr>
            <a:xfrm>
              <a:off x="2477520" y="3825720"/>
              <a:ext cx="14486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3200" spc="-1" strike="noStrike">
                  <a:solidFill>
                    <a:srgbClr val="000000"/>
                  </a:solidFill>
                  <a:latin typeface="Times New Roman"/>
                </a:rPr>
                <a:t>Interne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3200" spc="-1" strike="noStrike">
                  <a:solidFill>
                    <a:srgbClr val="000000"/>
                  </a:solidFill>
                  <a:latin typeface="Times New Roman"/>
                </a:rPr>
                <a:t>Server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3219480" y="1905120"/>
            <a:ext cx="3662280" cy="1514520"/>
            <a:chOff x="3219480" y="1905120"/>
            <a:chExt cx="3662280" cy="1514520"/>
          </a:xfrm>
        </p:grpSpPr>
        <p:sp>
          <p:nvSpPr>
            <p:cNvPr id="105" name=""/>
            <p:cNvSpPr/>
            <p:nvPr/>
          </p:nvSpPr>
          <p:spPr>
            <a:xfrm>
              <a:off x="5505480" y="1905120"/>
              <a:ext cx="914400" cy="838080"/>
            </a:xfrm>
            <a:prstGeom prst="cube">
              <a:avLst>
                <a:gd name="adj" fmla="val 25000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6" name=""/>
            <p:cNvCxnSpPr>
              <a:stCxn id="97" idx="4"/>
              <a:endCxn id="105" idx="2"/>
            </p:cNvCxnSpPr>
            <p:nvPr/>
          </p:nvCxnSpPr>
          <p:spPr>
            <a:xfrm flipV="1">
              <a:off x="3219480" y="2428560"/>
              <a:ext cx="2286720" cy="991440"/>
            </a:xfrm>
            <a:prstGeom prst="bentConnector3">
              <a:avLst>
                <a:gd name="adj1" fmla="val 54574"/>
              </a:avLst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07" name=""/>
            <p:cNvSpPr/>
            <p:nvPr/>
          </p:nvSpPr>
          <p:spPr>
            <a:xfrm>
              <a:off x="5297400" y="2835360"/>
              <a:ext cx="1584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3200" spc="-1" strike="noStrike">
                  <a:solidFill>
                    <a:srgbClr val="000000"/>
                  </a:solidFill>
                  <a:latin typeface="Times New Roman"/>
                </a:rPr>
                <a:t>Provider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6210000" y="2428920"/>
            <a:ext cx="2248200" cy="3943800"/>
            <a:chOff x="6210000" y="2428920"/>
            <a:chExt cx="2248200" cy="3943800"/>
          </a:xfrm>
        </p:grpSpPr>
        <p:sp>
          <p:nvSpPr>
            <p:cNvPr id="109" name=""/>
            <p:cNvSpPr/>
            <p:nvPr/>
          </p:nvSpPr>
          <p:spPr>
            <a:xfrm>
              <a:off x="6248520" y="3429000"/>
              <a:ext cx="2209680" cy="2743200"/>
            </a:xfrm>
            <a:prstGeom prst="irregularSeal2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0" name=""/>
            <p:cNvCxnSpPr>
              <a:stCxn id="105" idx="4"/>
              <a:endCxn id="109" idx="0"/>
            </p:cNvCxnSpPr>
            <p:nvPr/>
          </p:nvCxnSpPr>
          <p:spPr>
            <a:xfrm>
              <a:off x="6210000" y="2428920"/>
              <a:ext cx="1033920" cy="1240560"/>
            </a:xfrm>
            <a:prstGeom prst="bentConnector2">
              <a:avLst/>
            </a:prstGeom>
            <a:ln w="9360">
              <a:solidFill>
                <a:srgbClr val="ff0000"/>
              </a:solidFill>
              <a:miter/>
            </a:ln>
          </p:spPr>
        </p:cxnSp>
        <p:sp>
          <p:nvSpPr>
            <p:cNvPr id="111" name=""/>
            <p:cNvSpPr/>
            <p:nvPr/>
          </p:nvSpPr>
          <p:spPr>
            <a:xfrm>
              <a:off x="6992280" y="5791320"/>
              <a:ext cx="1448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3200" spc="-1" strike="noStrike">
                  <a:solidFill>
                    <a:srgbClr val="000000"/>
                  </a:solidFill>
                  <a:latin typeface="Times New Roman"/>
                </a:rPr>
                <a:t>Interne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et für Anfänger - Olaf Schmid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804A4-28F7-43B2-B301-FF82D8017609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0421AD-F13A-4CB4-9561-1AE7CBBA15F4}" type="datetime8">
              <a:rPr lang="en-US"/>
              <a:t>07/28/26 23: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18T17:40:52Z</dcterms:created>
  <dc:creator>Olaf Schmidt</dc:creator>
  <dc:description/>
  <dc:language>en-US</dc:language>
  <cp:lastModifiedBy>Olaf Schmidt</cp:lastModifiedBy>
  <dcterms:modified xsi:type="dcterms:W3CDTF">1999-04-23T19:46:08Z</dcterms:modified>
  <cp:revision>6</cp:revision>
  <dc:subject/>
  <dc:title>Zugang und Kosten</dc:title>
</cp:coreProperties>
</file>