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wmf" ContentType="image/x-wmf"/>
  <Override PartName="/ppt/media/image3.wmf" ContentType="image/x-wmf"/>
  <Override PartName="/ppt/media/image2.png" ContentType="image/png"/>
  <Override PartName="/ppt/media/image25.png" ContentType="image/png"/>
  <Override PartName="/ppt/media/image1.wmf" ContentType="image/x-wmf"/>
  <Override PartName="/ppt/media/image27.png" ContentType="image/png"/>
  <Override PartName="/ppt/media/image15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wmf" ContentType="image/x-wmf"/>
  <Override PartName="/ppt/media/image22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F5FF-3046-45A6-A553-DE34553C1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EB11-CB7D-4617-9443-CD7FB441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9691-F43C-43B8-9A8B-C5207E452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B6B3-5011-403B-8C14-98F5E6310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4C6E-5B7C-4E81-9AA3-F29D3B33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7C68-D4A5-498E-A9B1-7FCD5E89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9EC4-ECF3-4F4E-A510-2A9F8A3F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EB28-17D0-44FA-8161-B970275A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F6A7-0B19-478E-A77B-47895D24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9A55-7371-4155-B09E-A386517C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E4E3-77A5-4C2A-8687-78385CB5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28D6-BF57-402D-B1B9-B7E22C65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85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14C6-6347-45B1-8D2F-64D8F7739D95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A21873FC-61B3-4827-93E3-F3CD9CC266C8}" type="datetime10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3:1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A4E4-27D7-4E44-AB8A-2E336135244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248520"/>
            <a:ext cx="30492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" name=""/>
          <p:cNvCxnSpPr/>
          <p:nvPr/>
        </p:nvCxnSpPr>
        <p:spPr>
          <a:xfrm flipH="1" flipV="1" rot="5400000">
            <a:off x="56520" y="5886000"/>
            <a:ext cx="610560" cy="11484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" name=""/>
          <p:cNvSpPr/>
          <p:nvPr/>
        </p:nvSpPr>
        <p:spPr>
          <a:xfrm>
            <a:off x="304920" y="54100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52280" y="487692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45720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52280" y="426708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52280" y="396252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" name=""/>
          <p:cNvCxnSpPr/>
          <p:nvPr/>
        </p:nvCxnSpPr>
        <p:spPr>
          <a:xfrm flipV="1" rot="16200000">
            <a:off x="190080" y="5180760"/>
            <a:ext cx="419760" cy="38880"/>
          </a:xfrm>
          <a:prstGeom prst="bentConnector2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3" name=""/>
          <p:cNvCxnSpPr/>
          <p:nvPr/>
        </p:nvCxnSpPr>
        <p:spPr>
          <a:xfrm flipV="1" rot="16200000">
            <a:off x="37800" y="5028480"/>
            <a:ext cx="724320" cy="38880"/>
          </a:xfrm>
          <a:prstGeom prst="bentConnector2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4" name=""/>
          <p:cNvCxnSpPr/>
          <p:nvPr/>
        </p:nvCxnSpPr>
        <p:spPr>
          <a:xfrm flipV="1" rot="16200000">
            <a:off x="-114480" y="4875840"/>
            <a:ext cx="1028880" cy="38880"/>
          </a:xfrm>
          <a:prstGeom prst="bentConnector2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5" name=""/>
          <p:cNvCxnSpPr/>
          <p:nvPr/>
        </p:nvCxnSpPr>
        <p:spPr>
          <a:xfrm flipV="1" rot="16200000">
            <a:off x="-267120" y="4723560"/>
            <a:ext cx="1334160" cy="38880"/>
          </a:xfrm>
          <a:prstGeom prst="bentConnector2">
            <a:avLst/>
          </a:prstGeom>
          <a:ln w="9360">
            <a:solidFill>
              <a:srgbClr val="ff0000"/>
            </a:solidFill>
            <a:miter/>
          </a:ln>
        </p:spPr>
      </p:cxnSp>
      <p:sp>
        <p:nvSpPr>
          <p:cNvPr id="16" name=""/>
          <p:cNvSpPr/>
          <p:nvPr/>
        </p:nvSpPr>
        <p:spPr>
          <a:xfrm>
            <a:off x="8610480" y="5562720"/>
            <a:ext cx="38124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" name=""/>
          <p:cNvCxnSpPr/>
          <p:nvPr/>
        </p:nvCxnSpPr>
        <p:spPr>
          <a:xfrm flipV="1">
            <a:off x="457200" y="5943240"/>
            <a:ext cx="8344800" cy="457920"/>
          </a:xfrm>
          <a:prstGeom prst="bentConnector2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8" name=""/>
          <p:cNvCxnSpPr/>
          <p:nvPr/>
        </p:nvCxnSpPr>
        <p:spPr>
          <a:xfrm flipV="1" rot="16200000">
            <a:off x="6305040" y="3066480"/>
            <a:ext cx="4649040" cy="343800"/>
          </a:xfrm>
          <a:prstGeom prst="bentConnector2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World Wide Web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o surfen Sie durch´s Netz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81000"/>
            <a:ext cx="3276720" cy="213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C5A4-F367-478A-9492-2A9230F3B8D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7A3CC5-A532-4997-B53B-4114F3495E7C}" type="datetime8">
              <a:rPr lang="en-US"/>
              <a:t>07/28/26 23:12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Bestellen &amp; Bezahle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st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 den „Einkorbswagen“ le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ur Kasse ge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iste kontroll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zah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achnah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ankeinz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reditka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0" y="1447920"/>
            <a:ext cx="1612800" cy="1676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705720" y="4191120"/>
            <a:ext cx="1493640" cy="142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3533-55E7-4A94-A28B-8BED64E81C8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955D36-1AD7-4BC0-B45E-8060A3806024}" type="datetime8">
              <a:rPr lang="en-US"/>
              <a:t>07/28/26 23:12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Sicherhei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1737000"/>
            <a:ext cx="76201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Achtu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Immer darauf achten, daß die D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sicher übertragen we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019920" y="3809880"/>
            <a:ext cx="2057400" cy="2210040"/>
            <a:chOff x="6019920" y="3809880"/>
            <a:chExt cx="2057400" cy="221004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6324840" y="4343400"/>
              <a:ext cx="1527120" cy="11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6019920" y="3809880"/>
              <a:ext cx="2057400" cy="2210040"/>
            </a:xfrm>
            <a:prstGeom prst="noSmoking">
              <a:avLst>
                <a:gd name="adj" fmla="val 12500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066680" y="3809880"/>
            <a:ext cx="3352680" cy="2285640"/>
            <a:chOff x="1066680" y="3809880"/>
            <a:chExt cx="3352680" cy="2285640"/>
          </a:xfrm>
        </p:grpSpPr>
        <p:graphicFrame>
          <p:nvGraphicFramePr>
            <p:cNvPr id="128" name=""/>
            <p:cNvGraphicFramePr/>
            <p:nvPr/>
          </p:nvGraphicFramePr>
          <p:xfrm>
            <a:off x="1315080" y="4038120"/>
            <a:ext cx="2871000" cy="18554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15080" y="4038120"/>
                      <a:ext cx="2871000" cy="185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" name=""/>
            <p:cNvSpPr/>
            <p:nvPr/>
          </p:nvSpPr>
          <p:spPr>
            <a:xfrm>
              <a:off x="1066680" y="3809880"/>
              <a:ext cx="3352680" cy="228564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0B0E-6044-468B-B4EB-DA15DCBEEFA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50EF92-2D10-4D5B-95AC-80ED74191650}" type="datetime8">
              <a:rPr lang="en-US"/>
              <a:t>07/28/26 23:12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Online Banking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ww.postbank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to-Nr 9999999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IN 11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AN 111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ww.bank24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nline-Börsen D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85800" y="4114800"/>
            <a:ext cx="3657600" cy="671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181480" y="3733920"/>
            <a:ext cx="2971800" cy="1743120"/>
          </a:xfrm>
          <a:prstGeom prst="rect">
            <a:avLst/>
          </a:prstGeom>
          <a:ln w="0">
            <a:noFill/>
          </a:ln>
        </p:spPr>
      </p:pic>
      <p:grpSp>
        <p:nvGrpSpPr>
          <p:cNvPr id="136" name=""/>
          <p:cNvGrpSpPr/>
          <p:nvPr/>
        </p:nvGrpSpPr>
        <p:grpSpPr>
          <a:xfrm>
            <a:off x="4038480" y="5334120"/>
            <a:ext cx="1371600" cy="914400"/>
            <a:chOff x="4038480" y="5334120"/>
            <a:chExt cx="1371600" cy="914400"/>
          </a:xfrm>
        </p:grpSpPr>
        <p:graphicFrame>
          <p:nvGraphicFramePr>
            <p:cNvPr id="137" name=""/>
            <p:cNvGraphicFramePr/>
            <p:nvPr/>
          </p:nvGraphicFramePr>
          <p:xfrm>
            <a:off x="4140000" y="5425200"/>
            <a:ext cx="1174320" cy="742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140000" y="5425200"/>
                      <a:ext cx="1174320" cy="74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9" name=""/>
            <p:cNvSpPr/>
            <p:nvPr/>
          </p:nvSpPr>
          <p:spPr>
            <a:xfrm>
              <a:off x="4038480" y="5334120"/>
              <a:ext cx="1371600" cy="91440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3C91-0E96-4CDA-A163-76B57C08BFA4}" type="slidenum">
              <a:t>1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603DDC-2E56-42C0-B588-979EAD4528AB}" type="datetime8">
              <a:rPr lang="en-US"/>
              <a:t>07/28/26 23: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Sicherhei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icherheits-einstell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ktive Inhalte (Active-X) deaktivieren (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avaScript ggf. deaktiv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okies abschal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ti-Virus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allieren und während des Download aktiv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underByte Anti-Vi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-Prot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5980-0237-4E9D-862B-5FAA5949C448}" type="slidenum">
              <a:t>1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42AC54-B16E-4F27-A9C9-25C4ECD2BA4A}" type="datetime8">
              <a:rPr lang="en-US"/>
              <a:t>07/28/26 23:12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Cooki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6253-BD23-4078-AE6E-384AC95D712B}" type="slidenum">
              <a:t>1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D52B53-C23C-47F7-8B74-3D7FF0EB6C33}" type="datetime8">
              <a:rPr lang="en-US"/>
              <a:t>07/28/26 23:12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Prox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3B20-9127-4EDF-8C9D-7DC622F2978A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E7A6D0-0823-45A4-9A1A-B7F9545B51CB}" type="datetime8">
              <a:rPr lang="en-US"/>
              <a:t>07/28/26 23:12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FTP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9D0F-150F-41C3-9396-FAA74688EA8D}" type="slidenum">
              <a:t>1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530EEA-E02B-437F-A270-03A4890C3760}" type="datetime8">
              <a:rPr lang="en-US"/>
              <a:t>07/28/26 23:12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New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486C-0FB6-4A94-A156-9D098404FA15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2F4A67-8C42-495B-8148-FE493A625576}" type="datetime8">
              <a:rPr lang="en-US"/>
              <a:t>07/28/26 23:12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Ch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4657-D61D-4D8B-BDCC-91BF1540F788}" type="slidenum">
              <a:t>1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23C65A-E67D-4637-840D-F3F2BD4746A3}" type="datetime8">
              <a:rPr lang="en-US"/>
              <a:t>07/28/26 23:12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Seiten selber mache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dito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C478-CE69-446E-BD45-654F14869562}" type="slidenum">
              <a:t>1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5C9546-DC15-428E-9154-B510B0E2D06E}" type="datetime8">
              <a:rPr lang="en-US"/>
              <a:t>07/28/26 23: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048120" y="2666880"/>
          <a:ext cx="3200400" cy="257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666880"/>
                    <a:ext cx="3200400" cy="25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685800" y="1353960"/>
          <a:ext cx="7742160" cy="487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1353960"/>
                    <a:ext cx="7742160" cy="487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Ihr Browser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64280" y="2362320"/>
            <a:ext cx="912240" cy="3657240"/>
            <a:chOff x="764280" y="2362320"/>
            <a:chExt cx="912240" cy="3657240"/>
          </a:xfrm>
        </p:grpSpPr>
        <p:sp>
          <p:nvSpPr>
            <p:cNvPr id="64" name=""/>
            <p:cNvSpPr/>
            <p:nvPr/>
          </p:nvSpPr>
          <p:spPr>
            <a:xfrm>
              <a:off x="764280" y="3987720"/>
              <a:ext cx="70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0000"/>
                  </a:solidFill>
                  <a:latin typeface="Arial"/>
                </a:rPr>
                <a:t>Se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447920" y="2362320"/>
              <a:ext cx="228600" cy="365724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95040 h 3657240"/>
                <a:gd name="textAreaBottom" fmla="*/ 3562200 h 365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2590920" y="4495680"/>
            <a:ext cx="838080" cy="609840"/>
          </a:xfrm>
          <a:prstGeom prst="wedgeRoundRectCallout">
            <a:avLst>
              <a:gd name="adj1" fmla="val 120074"/>
              <a:gd name="adj2" fmla="val 42189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B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238880" y="4114800"/>
            <a:ext cx="838440" cy="533520"/>
          </a:xfrm>
          <a:prstGeom prst="wedgeRoundRectCallout">
            <a:avLst>
              <a:gd name="adj1" fmla="val -84092"/>
              <a:gd name="adj2" fmla="val 65180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5334120"/>
            <a:ext cx="1371600" cy="457200"/>
          </a:xfrm>
          <a:prstGeom prst="wedgeRoundRectCallout">
            <a:avLst>
              <a:gd name="adj1" fmla="val -101967"/>
              <a:gd name="adj2" fmla="val 80208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1523880"/>
            <a:ext cx="1676520" cy="838440"/>
          </a:xfrm>
          <a:prstGeom prst="wedgeRoundRectCallout">
            <a:avLst>
              <a:gd name="adj1" fmla="val -190435"/>
              <a:gd name="adj2" fmla="val 18180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Adre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B68B-490E-4271-AF59-3824F072B3A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52F9E0-39A5-48BE-ABB3-7BAF5928D104}" type="datetime8">
              <a:rPr lang="en-US"/>
              <a:t>07/28/26 23:1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Erste Schritt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95320" y="1523880"/>
            <a:ext cx="3962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dress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ww.troisdorf.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ww.wdr.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ww.whitehouse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ww.yahoo.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ww.spiegel.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ww.amazon.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bieren Sie es einfach mal a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rowser star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resse eingeben</a:t>
            </a:r>
            <a:br>
              <a:rPr sz="2400"/>
            </a:b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www.troisdorf.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[Return] drüc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nks aktivieren (einmal klicken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962520" y="4419720"/>
            <a:ext cx="1311120" cy="17334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3880" y="1905120"/>
            <a:ext cx="60962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C53A-DE3B-4C79-996E-24F5C6B6A26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38FEBD-03B5-4747-99D4-FFF1BFA8259B}" type="datetime8">
              <a:rPr lang="en-US"/>
              <a:t>07/28/26 23:12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Das kann Ihr Browser...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0" t="0" r="0" b="80006"/>
          <a:stretch/>
        </p:blipFill>
        <p:spPr>
          <a:xfrm>
            <a:off x="685800" y="3200400"/>
            <a:ext cx="7772400" cy="914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04920" y="2590920"/>
            <a:ext cx="990360" cy="533160"/>
          </a:xfrm>
          <a:prstGeom prst="wedgeRoundRectCallout">
            <a:avLst>
              <a:gd name="adj1" fmla="val 26120"/>
              <a:gd name="adj2" fmla="val 105953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Men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71600" y="1600200"/>
            <a:ext cx="990720" cy="1600200"/>
          </a:xfrm>
          <a:prstGeom prst="wedgeRoundRectCallout">
            <a:avLst>
              <a:gd name="adj1" fmla="val -66185"/>
              <a:gd name="adj2" fmla="val 73412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Z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letz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S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4343400"/>
            <a:ext cx="1295640" cy="1219320"/>
          </a:xfrm>
          <a:prstGeom prst="wedgeRoundRectCallout">
            <a:avLst>
              <a:gd name="adj1" fmla="val -4777"/>
              <a:gd name="adj2" fmla="val -83462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Les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zei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einfü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4267080"/>
            <a:ext cx="1295640" cy="1600200"/>
          </a:xfrm>
          <a:prstGeom prst="wedgeRoundRectCallout">
            <a:avLst>
              <a:gd name="adj1" fmla="val -60050"/>
              <a:gd name="adj2" fmla="val -85712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Z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näch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S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ge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1600200"/>
            <a:ext cx="990720" cy="1600200"/>
          </a:xfrm>
          <a:prstGeom prst="wedgeRoundRectCallout">
            <a:avLst>
              <a:gd name="adj1" fmla="val -56569"/>
              <a:gd name="adj2" fmla="val 71726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S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n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la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52680" y="4267080"/>
            <a:ext cx="990720" cy="1600200"/>
          </a:xfrm>
          <a:prstGeom prst="wedgeRoundRectCallout">
            <a:avLst>
              <a:gd name="adj1" fmla="val -86217"/>
              <a:gd name="adj2" fmla="val -87402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Start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s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38480" y="1600200"/>
            <a:ext cx="1143000" cy="1600200"/>
          </a:xfrm>
          <a:prstGeom prst="wedgeRoundRectCallout">
            <a:avLst>
              <a:gd name="adj1" fmla="val -7500"/>
              <a:gd name="adj2" fmla="val 70041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S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druc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4267080"/>
            <a:ext cx="1523880" cy="1600200"/>
          </a:xfrm>
          <a:prstGeom prst="wedgeRoundRectCallout">
            <a:avLst>
              <a:gd name="adj1" fmla="val -15935"/>
              <a:gd name="adj2" fmla="val -81152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Wird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S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s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gela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1600200"/>
            <a:ext cx="1600200" cy="1600200"/>
          </a:xfrm>
          <a:prstGeom prst="wedgeRoundRectCallout">
            <a:avLst>
              <a:gd name="adj1" fmla="val -33930"/>
              <a:gd name="adj2" fmla="val 70041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La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abbre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29400" y="4267080"/>
            <a:ext cx="1752480" cy="1524240"/>
          </a:xfrm>
          <a:prstGeom prst="cloudCallout">
            <a:avLst>
              <a:gd name="adj1" fmla="val 38407"/>
              <a:gd name="adj2" fmla="val -81564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Seite wi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gela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C577-2E3B-4783-8650-88F565A9567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D7A654-A01C-4EA1-97FB-EF9336C4E654}" type="datetime8">
              <a:rPr lang="en-US"/>
              <a:t>07/28/26 23:12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Weitere interessante Seite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Times New Roman"/>
              </a:rPr>
              <a:t>Virenschutz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heise.de/ct/antivir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Times New Roman"/>
              </a:rPr>
              <a:t>Suchmaschinen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www.yahoo.de www.web.de www.lycos.de www.altavista.digita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Times New Roman"/>
              </a:rPr>
              <a:t>Suche nach E-Mail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www.four11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Times New Roman"/>
              </a:rPr>
              <a:t>Job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www.jobs.de www.arbeitsamt.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Times New Roman"/>
              </a:rPr>
              <a:t>HTML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www.teamone.de/selfhtml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Times New Roman"/>
              </a:rPr>
              <a:t>Lokale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www.troisdorf.de www.buergerhaus-troisdorf.de gewerbegebiet.biberweg.de www.koeln-bonn.de www.spd-troisdorf.de www.lohmar.org/troisdorf.htm www.siegburg.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Times New Roman"/>
              </a:rPr>
              <a:t>Reise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city.net www.reise.de www.reisen.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Times New Roman"/>
              </a:rPr>
              <a:t>WWW-Karte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www.leo.org www.entry.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Times New Roman"/>
              </a:rPr>
              <a:t>Bücher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www.amazon.de www.buch.d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buecher.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Times New Roman"/>
              </a:rPr>
              <a:t>Kino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www.cinelux.de www.cinedom.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CB1D-A277-4B9A-A5DA-FD644A18C20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AC672C-186E-4EB4-B577-3B94C29C284D}" type="datetime8">
              <a:rPr lang="en-US"/>
              <a:t>07/28/26 23:1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Wo finde ich was?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hematische Katalo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übersichtlich nach Themen sorti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tegorien und Unterkategor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ww.yahoo.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ww.web.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uchmaschin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ichwo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eine redaktionelle Bearb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ww.lycos.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ww.hotb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ort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ww.t-online.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ww.aol.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828800" y="4038480"/>
            <a:ext cx="2195640" cy="2175120"/>
            <a:chOff x="1828800" y="4038480"/>
            <a:chExt cx="2195640" cy="217512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1828800" y="4038480"/>
              <a:ext cx="2195640" cy="59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1828800" y="5410080"/>
              <a:ext cx="1143000" cy="80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724280" y="4114800"/>
            <a:ext cx="3265560" cy="536400"/>
            <a:chOff x="4724280" y="4114800"/>
            <a:chExt cx="3265560" cy="536400"/>
          </a:xfrm>
        </p:grpSpPr>
        <p:pic>
          <p:nvPicPr>
            <p:cNvPr id="96" name="" descr=""/>
            <p:cNvPicPr/>
            <p:nvPr/>
          </p:nvPicPr>
          <p:blipFill>
            <a:blip r:embed="rId3"/>
            <a:stretch/>
          </p:blipFill>
          <p:spPr>
            <a:xfrm>
              <a:off x="4724280" y="4114800"/>
              <a:ext cx="1581120" cy="44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4"/>
            <a:stretch/>
          </p:blipFill>
          <p:spPr>
            <a:xfrm>
              <a:off x="6858000" y="4114800"/>
              <a:ext cx="1131840" cy="53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2212-EA93-4487-8F82-293172D3C48D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E28DC5-4CE9-4309-A3B9-0DF55DB7E6E7}" type="datetime8">
              <a:rPr lang="en-US"/>
              <a:t>07/28/26 23:12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Schnitzeljagd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ernen Sie das Internet anhand von Beispielen kenn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aterial v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ans Preisker 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imon Schwar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Schreiben Sie die „Lösungen“ auf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337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D869-F011-4915-B63E-56E29F6F26B7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4D7774-6277-4F08-B257-6ED468935DD6}" type="datetime8">
              <a:rPr lang="en-US"/>
              <a:t>07/28/26 23:12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Drucken und Speicher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95480" y="1523880"/>
            <a:ext cx="55627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eite druc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vtl. Drucker auf Querformat einst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peich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s können nur die Texte und Bilder getrennt gespeicher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ilder mit „rechter Maus“ speiche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523880" y="1600200"/>
          <a:ext cx="1266840" cy="9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00200"/>
                    <a:ext cx="126684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685800" y="2971800"/>
          <a:ext cx="2085840" cy="314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971800"/>
                    <a:ext cx="2085840" cy="31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1960-7097-4A8D-B928-80579C533B2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FB5DB1-94D5-4DE8-9080-4B09F324A3E4}" type="datetime8">
              <a:rPr lang="en-US"/>
              <a:t>07/28/26 23:12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Shopping im Netz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05120" y="5410080"/>
            <a:ext cx="2743200" cy="674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2028960" cy="585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295280" y="2514600"/>
            <a:ext cx="1905120" cy="1433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rcRect l="0" t="0" r="0" b="26503"/>
          <a:stretch/>
        </p:blipFill>
        <p:spPr>
          <a:xfrm>
            <a:off x="4952880" y="5486400"/>
            <a:ext cx="2286000" cy="762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6629400" y="4419720"/>
            <a:ext cx="1851120" cy="892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6705720" y="2057400"/>
            <a:ext cx="1687320" cy="1014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4038480" y="1752480"/>
            <a:ext cx="1905120" cy="1252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8"/>
          <a:stretch/>
        </p:blipFill>
        <p:spPr>
          <a:xfrm>
            <a:off x="762120" y="4343400"/>
            <a:ext cx="3181320" cy="576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9"/>
          <a:stretch/>
        </p:blipFill>
        <p:spPr>
          <a:xfrm>
            <a:off x="990720" y="1600200"/>
            <a:ext cx="2536560" cy="546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0"/>
          <a:stretch/>
        </p:blipFill>
        <p:spPr>
          <a:xfrm>
            <a:off x="4876920" y="3429000"/>
            <a:ext cx="3414600" cy="83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D104-AF7C-4649-B1A9-B78D9D5B855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69A892-3E4C-4201-A1B0-BA7EA8375016}" type="datetime8">
              <a:rPr lang="en-US"/>
              <a:t>07/28/26 23:1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5T06:42:58Z</dcterms:created>
  <dc:creator>Olaf Schmidt</dc:creator>
  <dc:description/>
  <dc:language>en-US</dc:language>
  <cp:lastModifiedBy>Olaf Schmidt</cp:lastModifiedBy>
  <cp:lastPrinted>1999-04-23T17:16:25Z</cp:lastPrinted>
  <dcterms:modified xsi:type="dcterms:W3CDTF">1999-04-23T20:10:20Z</dcterms:modified>
  <cp:revision>18</cp:revision>
  <dc:subject/>
  <dc:title>World Wide Web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WINDOWS\Profiles\olaf\Desktop\Inter für Anfänger\HTML\www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