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3E8-3FE1-4AA5-99E1-7FAD896B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FF7-7321-4727-9D1A-AC420BB9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64A-BCA0-490C-BF74-DEB6DCEF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E20-E75E-47A9-8617-4D963815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403-8F0F-49DE-BAC5-46935D2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B51-1A31-4E89-87D0-79C5DEFF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E1C-CFC1-40CD-8313-32592E40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CBD-AB41-487E-A98F-B889AB5B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800-F3B2-41DE-8079-F238155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4E9-A03B-493C-90CD-422A39F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851-2B9D-4D49-9C78-33E6B6B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66A-6E59-4493-B433-413A797C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26C-E376-492C-8203-523C298E02E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E99CE5B-3A7F-462D-989E-E95177C66104}" type="datetime10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3:1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274-834C-47A7-9BF5-A3A0CAB12C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248520"/>
            <a:ext cx="30492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" name=""/>
          <p:cNvCxnSpPr/>
          <p:nvPr/>
        </p:nvCxnSpPr>
        <p:spPr>
          <a:xfrm flipH="1" flipV="1" rot="5400000">
            <a:off x="56520" y="5886000"/>
            <a:ext cx="610560" cy="114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" name=""/>
          <p:cNvSpPr/>
          <p:nvPr/>
        </p:nvSpPr>
        <p:spPr>
          <a:xfrm>
            <a:off x="304920" y="5410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48769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42670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39625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" name=""/>
          <p:cNvCxnSpPr/>
          <p:nvPr/>
        </p:nvCxnSpPr>
        <p:spPr>
          <a:xfrm flipV="1" rot="16200000">
            <a:off x="190080" y="5180760"/>
            <a:ext cx="4197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" name=""/>
          <p:cNvCxnSpPr/>
          <p:nvPr/>
        </p:nvCxnSpPr>
        <p:spPr>
          <a:xfrm flipV="1" rot="16200000">
            <a:off x="37800" y="5028480"/>
            <a:ext cx="72432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4" name=""/>
          <p:cNvCxnSpPr/>
          <p:nvPr/>
        </p:nvCxnSpPr>
        <p:spPr>
          <a:xfrm flipV="1" rot="16200000">
            <a:off x="-114480" y="4875840"/>
            <a:ext cx="102888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5" name=""/>
          <p:cNvCxnSpPr/>
          <p:nvPr/>
        </p:nvCxnSpPr>
        <p:spPr>
          <a:xfrm flipV="1" rot="16200000">
            <a:off x="-267120" y="4723560"/>
            <a:ext cx="1334160" cy="3888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6" name=""/>
          <p:cNvSpPr/>
          <p:nvPr/>
        </p:nvSpPr>
        <p:spPr>
          <a:xfrm>
            <a:off x="8610480" y="5562720"/>
            <a:ext cx="3812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" name=""/>
          <p:cNvCxnSpPr/>
          <p:nvPr/>
        </p:nvCxnSpPr>
        <p:spPr>
          <a:xfrm flipV="1">
            <a:off x="457200" y="5943240"/>
            <a:ext cx="8344800" cy="457920"/>
          </a:xfrm>
          <a:prstGeom prst="bentConnector2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8" name=""/>
          <p:cNvCxnSpPr/>
          <p:nvPr/>
        </p:nvCxnSpPr>
        <p:spPr>
          <a:xfrm flipV="1" rot="16200000">
            <a:off x="6324120" y="3085560"/>
            <a:ext cx="4610880" cy="343800"/>
          </a:xfrm>
          <a:prstGeom prst="bentConnector2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nternet für Anfäng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llkommen beim Kur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C83-8D61-4371-9EF3-3B909EE1D751}" type="datetime2">
              <a:rPr b="0" lang="de-DE" sz="1800" spc="-1" strike="noStrike">
                <a:solidFill>
                  <a:srgbClr val="000000"/>
                </a:solidFill>
                <a:latin typeface="Arial"/>
              </a:rPr>
              <a:t>Dienstag, 28. Juli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F67-3C85-4474-949A-5B4626C3AC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0D33E-7B2C-4587-A117-A7909DD4400E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Geschich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t in den USA als Projekt des US-Militärs (Arpa Net)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-Mail,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ssenschaftsnetz,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es Netz der Netze,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orld Wide Web,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gang für Jeder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004-088D-4112-B23D-8F1918F4EE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74D31-AE92-4A2F-806C-9EEEFC3319E1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hr Dozen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r Pe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laf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itur am Gymnasium Altenforst 199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ium der Informatik an der Uni Bo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plom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tieg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itdem täglicher Gebr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se regelmäßig sei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vider” seit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2D4-F71D-4049-8B7D-1E73C55EE71B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54EC3E-3F39-4C00-9506-959E234D1F14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Zeitlicher Rahm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rsz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mstag 14-18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ntag 9-13 Uhr und 14-18 U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u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s Mittagessen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min Pausen nach Wu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482840" cy="198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D6F-9B45-45FF-AF33-328AB6BB9DB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3EB5-94A8-4BD1-9F01-64A0C3398A70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Frag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um T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ort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griffe nach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iterführ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amm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stunde am Schlu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ell während des K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1912680" cy="1795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81080" y="3733920"/>
            <a:ext cx="1043280" cy="2243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AE1-67DA-40BF-A3C1-54F079A55A2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5EED6-B4FB-4972-A700-FA3266FE7081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Themenübersich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tzwerke, Tech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n persönlicher Zugang,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chmasch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zelja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58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,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50292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Individuelle Beratung. Individuelle Wüns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0FF-543F-40E5-A573-D951D34B4790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AB31C-E1F0-4429-9B7E-29D9476AD2EE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eiterführende Them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ws (schwarzes Bre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TP (Dateien la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t (online Ko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halte/Seiten selber m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benslange E-Mail Adresse mit G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ine Banking + 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er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73-F04E-45C2-A77F-B0F800E9A51E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36658-2539-490F-8487-E5CAEA9DDEDC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Erwartunge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d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haben Sie für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Vorkenntniss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für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Erwartung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für 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Wüns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8320" y="4572000"/>
            <a:ext cx="479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s wäre schö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wenn jeder mal kurz zu Wort komm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F9E-19CB-4220-908C-567EB42AF9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73593-A811-4CB0-87AF-82F019DE90BC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Internetbroschü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&amp; Refe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zum K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 auch Kursinha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ug freiwill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gabe nach Kurs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Broschüre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3256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41D-69A5-4A21-B9F7-EE70DD1C3E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F509A-6F8A-4471-AC73-767D272A986E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cc"/>
                </a:solidFill>
                <a:latin typeface="Arial"/>
              </a:rPr>
              <a:t>Weiteres Materia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e bekommen auf Wunsch noch mehr Material während des Kurses ausgehändi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net - Schnitzeljag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lienkop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eis- / Leistungsübersicht der verschiedenen Anbi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ernet für Anfänger - Olaf Schmid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51-CC42-47E5-B72A-F61E198E03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ACD25-2FFC-4782-BBB1-1E42D723E749}" type="datetime8">
              <a:rPr lang="en-US"/>
              <a:t>07/28/26 23: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4:42:53Z</dcterms:created>
  <dc:creator>Olaf Schmidt</dc:creator>
  <dc:description/>
  <dc:language>en-US</dc:language>
  <cp:lastModifiedBy>Olaf Schmidt</cp:lastModifiedBy>
  <cp:lastPrinted>1999-04-15T22:23:47Z</cp:lastPrinted>
  <dcterms:modified xsi:type="dcterms:W3CDTF">1999-04-23T20:10:24Z</dcterms:modified>
  <cp:revision>20</cp:revision>
  <dc:subject/>
  <dc:title>Internet für Anfänger</dc:title>
</cp:coreProperties>
</file>