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55AF-4863-42A2-9D6D-9BB9614D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C1ED-A159-4BCE-BD3A-15B3BF6E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640D-7937-4FD6-AE3E-E7F99CF0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850F-84F9-4123-BF99-48B41FA0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2731-C14B-414C-BBC1-0CA04C0D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2587-851C-42B1-A182-855BE927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7BE-EAA1-4F06-A04D-A3CD498E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AD3D-2225-4B53-8359-6385CF93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F662-86FE-4B6D-8C7A-C203E254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9C65-9E6F-4F00-884D-63F97C84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F61D-F05E-4AEC-8BD1-F8BC7488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EB6C-5340-4A34-8A92-6468EA80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85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BBC7-FBF5-4626-B32A-2CD05DD30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248520"/>
            <a:ext cx="3049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" name=""/>
          <p:cNvCxnSpPr/>
          <p:nvPr/>
        </p:nvCxnSpPr>
        <p:spPr>
          <a:xfrm flipH="1" flipV="1" rot="5400000">
            <a:off x="56520" y="5886000"/>
            <a:ext cx="610560" cy="11484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" name=""/>
          <p:cNvSpPr/>
          <p:nvPr/>
        </p:nvSpPr>
        <p:spPr>
          <a:xfrm>
            <a:off x="304920" y="54100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48769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45720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52280" y="426708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52280" y="39625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" name=""/>
          <p:cNvCxnSpPr/>
          <p:nvPr/>
        </p:nvCxnSpPr>
        <p:spPr>
          <a:xfrm flipV="1" rot="16200000">
            <a:off x="190080" y="5180760"/>
            <a:ext cx="419760" cy="3888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3" name=""/>
          <p:cNvCxnSpPr/>
          <p:nvPr/>
        </p:nvCxnSpPr>
        <p:spPr>
          <a:xfrm flipV="1" rot="16200000">
            <a:off x="37800" y="5028480"/>
            <a:ext cx="724320" cy="3888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4" name=""/>
          <p:cNvCxnSpPr/>
          <p:nvPr/>
        </p:nvCxnSpPr>
        <p:spPr>
          <a:xfrm flipV="1" rot="16200000">
            <a:off x="-114480" y="4875840"/>
            <a:ext cx="1028880" cy="3888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5" name=""/>
          <p:cNvCxnSpPr/>
          <p:nvPr/>
        </p:nvCxnSpPr>
        <p:spPr>
          <a:xfrm flipV="1" rot="16200000">
            <a:off x="-267120" y="4723560"/>
            <a:ext cx="1334160" cy="3888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sp>
        <p:nvSpPr>
          <p:cNvPr id="16" name=""/>
          <p:cNvSpPr/>
          <p:nvPr/>
        </p:nvSpPr>
        <p:spPr>
          <a:xfrm>
            <a:off x="8610480" y="5562720"/>
            <a:ext cx="38124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" name=""/>
          <p:cNvCxnSpPr/>
          <p:nvPr/>
        </p:nvCxnSpPr>
        <p:spPr>
          <a:xfrm flipV="1">
            <a:off x="457200" y="5943240"/>
            <a:ext cx="8344800" cy="457920"/>
          </a:xfrm>
          <a:prstGeom prst="bentConnector2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8" name=""/>
          <p:cNvCxnSpPr/>
          <p:nvPr/>
        </p:nvCxnSpPr>
        <p:spPr>
          <a:xfrm flipV="1" rot="16200000">
            <a:off x="6324120" y="3085560"/>
            <a:ext cx="4610880" cy="343800"/>
          </a:xfrm>
          <a:prstGeom prst="bentConnector2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Start.ppt#Internet f&#252;r Anf&#228;nger" TargetMode="External"/><Relationship Id="rId2" Type="http://schemas.openxmlformats.org/officeDocument/2006/relationships/hyperlink" Target="file:///www.ppt#Internet f&#252;r Anf&#228;nger" TargetMode="External"/><Relationship Id="rId3" Type="http://schemas.openxmlformats.org/officeDocument/2006/relationships/hyperlink" Target="file:///www.ppt#Internet f&#252;r Anf&#228;nger" TargetMode="External"/><Relationship Id="rId4" Type="http://schemas.openxmlformats.org/officeDocument/2006/relationships/hyperlink" Target="file:///www.ppt#Internet f&#252;r Anf&#228;nger" TargetMode="External"/><Relationship Id="rId5" Type="http://schemas.openxmlformats.org/officeDocument/2006/relationships/hyperlink" Target="file:///www.ppt#Internet f&#252;r Anf&#228;nger" TargetMode="External"/><Relationship Id="rId6" Type="http://schemas.openxmlformats.org/officeDocument/2006/relationships/hyperlink" Target="file:///EMail.ppt#Internet f&#252;r Anf&#228;nger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ternet für Anfäng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illkom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orld </a:t>
            </a: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ide</a:t>
            </a: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 </a:t>
            </a: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E-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echn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ug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hlußw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1T18:54:04Z</dcterms:created>
  <dc:creator>Olaf Schmidt</dc:creator>
  <dc:description/>
  <dc:language>en-US</dc:language>
  <cp:lastModifiedBy>Olaf Schmidt</cp:lastModifiedBy>
  <dcterms:modified xsi:type="dcterms:W3CDTF">1999-04-23T19:35:55Z</dcterms:modified>
  <cp:revision>5</cp:revision>
  <dc:subject/>
  <dc:title>Übersicht</dc:title>
</cp:coreProperties>
</file>