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6858000" cy="9144000"/>
  <p:custShowLst>
    <p:custShow name="MS Outlook Express" id="0">
      <p:sldLst>
        <p:sld r:id="rId3"/>
        <p:sld r:id="rId4"/>
        <p:sld r:id="rId5"/>
        <p:sld r:id="rId6"/>
        <p:sld r:id="rId7"/>
        <p:sld r:id="rId8"/>
        <p:sld r:id="rId9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Netscape Navigator" id="1">
      <p:sldLst>
        <p:sld r:id="rId3"/>
        <p:sld r:id="rId4"/>
        <p:sld r:id="rId5"/>
        <p:sld r:id="rId10"/>
        <p:sld r:id="rId22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D03-B273-4253-9ECA-C7B284DA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42680" y="39121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D79-A6FF-4F70-B66D-3450283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572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2680" y="39121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57280" y="39121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DFD-EDFF-407B-B123-67864C8B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89920" y="152388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36800" y="152388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42680" y="39121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89920" y="39121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36800" y="391212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5C6-CD42-4796-A81B-B503F669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FCA-3D5A-40E5-B5FA-53622DF2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7C9-9A03-43A9-930F-135A5FC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52388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2EB3-E26D-4B49-BD40-AAB7582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963-0B41-4E87-ABEB-F675843A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1BF-86EC-484D-895C-2DBCECE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52388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39121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100-B398-4A00-A9CB-CCD24BE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57280" y="391212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FAB-85D3-433B-978B-7DB76B7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53244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57280" y="152388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391212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821-C3FD-4155-B897-8515B1E8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455-3E99-45EF-BB81-D48DF34D773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2332A50-0D43-449E-AE8F-0DC46741C23E}" type="datetime10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3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00440"/>
            <a:ext cx="313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0044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277-4C9F-4762-942A-F094DCE893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5240" y="6248520"/>
            <a:ext cx="3301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86760" y="5881320"/>
            <a:ext cx="610560" cy="124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30120" y="5410080"/>
            <a:ext cx="2476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65240" y="48769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65240" y="457200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65240" y="426708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5240" y="3962520"/>
            <a:ext cx="2476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223560" y="5179320"/>
            <a:ext cx="419760" cy="417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71280" y="5027040"/>
            <a:ext cx="724320" cy="417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81000" y="4874400"/>
            <a:ext cx="1028880" cy="417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33640" y="4722120"/>
            <a:ext cx="1334160" cy="417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9328320" y="5562720"/>
            <a:ext cx="41256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95000" y="5943240"/>
            <a:ext cx="903996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7024320" y="3052080"/>
            <a:ext cx="4649040" cy="37224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lectronic Mail (E-Mail)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schicken Sie 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er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über das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45E-F1B1-4B3F-BBA5-4B484DA8BA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14D62-A175-4E5D-B9B8-323ACDB65849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-Mail abruf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43040" y="3886200"/>
            <a:ext cx="5200200" cy="2286000"/>
            <a:chOff x="743040" y="3886200"/>
            <a:chExt cx="5200200" cy="2286000"/>
          </a:xfrm>
        </p:grpSpPr>
        <p:sp>
          <p:nvSpPr>
            <p:cNvPr id="117" name=""/>
            <p:cNvSpPr/>
            <p:nvPr/>
          </p:nvSpPr>
          <p:spPr>
            <a:xfrm>
              <a:off x="4292640" y="4876920"/>
              <a:ext cx="1650600" cy="685800"/>
            </a:xfrm>
            <a:prstGeom prst="leftArrow">
              <a:avLst>
                <a:gd name="adj1" fmla="val 50000"/>
                <a:gd name="adj2" fmla="val 60171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3040" y="3886200"/>
              <a:ext cx="3053880" cy="2286000"/>
              <a:chOff x="743040" y="3886200"/>
              <a:chExt cx="3053880" cy="2286000"/>
            </a:xfrm>
          </p:grpSpPr>
          <p:sp>
            <p:nvSpPr>
              <p:cNvPr id="119" name=""/>
              <p:cNvSpPr/>
              <p:nvPr/>
            </p:nvSpPr>
            <p:spPr>
              <a:xfrm>
                <a:off x="743040" y="3886200"/>
                <a:ext cx="3053880" cy="2286000"/>
              </a:xfrm>
              <a:prstGeom prst="verticalScroll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24080" y="4800600"/>
                <a:ext cx="155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0000"/>
                    </a:solidFill>
                    <a:latin typeface="Arial"/>
                  </a:rPr>
                  <a:t>Mail les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1" name=""/>
          <p:cNvGraphicFramePr/>
          <p:nvPr/>
        </p:nvGraphicFramePr>
        <p:xfrm>
          <a:off x="914400" y="1523880"/>
          <a:ext cx="2286000" cy="16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22860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3797280" y="1523880"/>
            <a:ext cx="5365800" cy="1889280"/>
            <a:chOff x="3797280" y="1523880"/>
            <a:chExt cx="5365800" cy="1889280"/>
          </a:xfrm>
        </p:grpSpPr>
        <p:sp>
          <p:nvSpPr>
            <p:cNvPr id="124" name=""/>
            <p:cNvSpPr/>
            <p:nvPr/>
          </p:nvSpPr>
          <p:spPr>
            <a:xfrm>
              <a:off x="3797280" y="1981080"/>
              <a:ext cx="1155600" cy="609840"/>
            </a:xfrm>
            <a:prstGeom prst="rightArrow">
              <a:avLst>
                <a:gd name="adj1" fmla="val 50000"/>
                <a:gd name="adj2" fmla="val 47373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105520" y="1523880"/>
              <a:ext cx="4057560" cy="188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6019920" y="4038480"/>
            <a:ext cx="3200400" cy="2067120"/>
            <a:chOff x="6019920" y="4038480"/>
            <a:chExt cx="3200400" cy="2067120"/>
          </a:xfrm>
        </p:grpSpPr>
        <p:sp>
          <p:nvSpPr>
            <p:cNvPr id="127" name=""/>
            <p:cNvSpPr/>
            <p:nvPr/>
          </p:nvSpPr>
          <p:spPr>
            <a:xfrm>
              <a:off x="7429680" y="4038480"/>
              <a:ext cx="577800" cy="30492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6019920" y="4648320"/>
              <a:ext cx="3200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F13-0CBD-4750-BC83-E9663356C8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DAA5E-6401-4257-9A38-5C7CC0E80AE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372520" cy="490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-Mail les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209680"/>
            <a:ext cx="2971800" cy="304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352680"/>
            <a:ext cx="793764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733920"/>
            <a:ext cx="8001000" cy="22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9E7-7DAD-4264-97AC-82420819C3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7DF0D-76F0-4B41-9499-B1974B679F6E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Und jetzt sind Sie dran!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hreiben Sie sich doch mal untereinander Mai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ress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hs1@vhs-tdf-ndk.de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hs13@vhs-tdf-ndk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9F0-1724-4AAC-BC0C-2F0A2D17D7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52DDC-C463-4558-AB76-FB48197AA37C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oftwarefunktion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ply,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, BCC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FC1-A048-4DBE-A431-550DE7E87B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066DF-C363-4EA2-8ACE-90F4EEEC740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Adressbuch (Alias)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EE8-DB66-4E1D-9844-257E8C7E30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36A4E-B5AB-40AB-B517-6FEF4D38D955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on hier nach dort...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 da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indung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den (über SM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nd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-Mail Computer transportieren die Email durch das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3532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ou´ve got mail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il wird im persönlichen Postfach gespeich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indung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il abholen (mit POP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F00-8994-4F59-885B-20ADAA2BDDB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6F5B9-D27F-4C57-99ED-882DA56F67E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Online / Off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CD8-43A8-4E5F-9431-4528729040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4209-4617-4FFF-9E0E-33363D0C8428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Adressen such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lefonbücher“ im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bigfoot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.people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Es erfolgt keine automatische Eintragu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rmale Such-maschinen verw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1473480" cy="2440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5334120"/>
            <a:ext cx="4172040" cy="5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5B3-4DA2-41AC-BA11-82940576078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4D16D-D2E6-4E49-A4A9-AF62BBE88E2B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GM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 Message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loser Anbi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benslange E-Mail Ad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leitung von E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gmx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 anm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36015"/>
          <a:stretch/>
        </p:blipFill>
        <p:spPr>
          <a:xfrm>
            <a:off x="1447920" y="4876920"/>
            <a:ext cx="7010280" cy="1122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05A-0DC5-4514-AA7F-D666E351B60A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FF363-099C-44DA-9D10-49D1FA05AC5D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Mailinglis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jord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C5C-7E37-4F9B-94EC-A8F566B9CE71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9BBA6-F72F-45D2-AB9D-58367CD279B9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55600" y="1371600"/>
            <a:ext cx="4457880" cy="4952880"/>
          </a:xfrm>
          <a:prstGeom prst="verticalScrol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om Brief zur E-Mai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16200" y="1980720"/>
            <a:ext cx="3054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laf Schmidt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Gladiolenstr. 31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53840 Troisdorf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Britta Zunker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Martin-Luther-Straße 6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53844 Troisdor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roisdorf, den </a:t>
            </a:r>
            <a:fld id="{157DB8FA-297F-4BD1-B4C3-3857C79A42FF}" type="datetime">
              <a:rPr b="0" lang="de-DE" sz="13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300" spc="-1" strike="noStrike">
                <a:solidFill>
                  <a:srgbClr val="000000"/>
                </a:solidFill>
                <a:latin typeface="Arial"/>
              </a:rPr>
              <a:t>Münch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Hallo liebe Britta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ch komme mit zwei Tagen Verspätung aus München zurück, weil es hier Glatteis gegeben h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Viele liebe Grüs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la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5680" y="1981080"/>
            <a:ext cx="4292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ourier New"/>
              </a:rPr>
              <a:t>From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laf Schmidt &lt;olaf@t-online.d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ourier New"/>
              </a:rPr>
              <a:t>T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Britta Zunker &lt;britta@aol.c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ourier New"/>
              </a:rPr>
              <a:t>Subjec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Muen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ourier New"/>
              </a:rPr>
              <a:t>Reply-to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laf@dodo.rhein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Mon, 27 Jan 1997 11:02:38 +0100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(M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9880" y="19810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Ab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7080" y="25909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Empfä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8640" y="327672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7200" y="358128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Betre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25480" y="4038480"/>
            <a:ext cx="825120" cy="1600200"/>
            <a:chOff x="825480" y="4038480"/>
            <a:chExt cx="825120" cy="1600200"/>
          </a:xfrm>
        </p:grpSpPr>
        <p:sp>
          <p:nvSpPr>
            <p:cNvPr id="66" name=""/>
            <p:cNvSpPr/>
            <p:nvPr/>
          </p:nvSpPr>
          <p:spPr>
            <a:xfrm>
              <a:off x="825480" y="4648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85720" y="4038480"/>
              <a:ext cx="164880" cy="160020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029200" y="3505320"/>
            <a:ext cx="4495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Hallo liebe Brit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Ich komme mit zwei Tagen Verspätung aus München zurück, weil es hier Glatteis gegeben h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Viele liebe Grü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l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3D5-99D4-42BC-B8FE-FF0F9C240DDF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2D14A-8D4E-46C4-BCDC-0312535DBAE9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-Mail einrich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268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count/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523880"/>
            <a:ext cx="413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TML / M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9B2-ECFF-414B-A945-17574FA4A19D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8642F-4CF6-43A5-937A-FA2898002EF6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Vergleich zur „gelben Post“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43040" y="2514600"/>
          <a:ext cx="8420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514600"/>
                    <a:ext cx="84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3040" y="1447920"/>
            <a:ext cx="83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-Mail benutzt ein ähnliches Prinzip wie die gelbe Post. Zu den wichtigsten Begriffen gibt es eine Analo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3040" y="5334120"/>
            <a:ext cx="83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m Einwerfen bis zum Abholen, wissen Sie nicht welchen Weg Ihr Brief nimm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2D2-A2E1-4B87-8072-F7E3EEBCEB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C801-BE5A-428E-B585-0FECD03DC984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8120" y="2438280"/>
          <a:ext cx="365760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36576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MS Outlook Expr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2120" y="1371600"/>
            <a:ext cx="8420040" cy="4876560"/>
            <a:chOff x="762120" y="1371600"/>
            <a:chExt cx="8420040" cy="487656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762120" y="1371600"/>
              <a:ext cx="842004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002240" y="4341960"/>
              <a:ext cx="1373400" cy="561240"/>
            </a:xfrm>
            <a:prstGeom prst="wedgeRoundRectCallout">
              <a:avLst>
                <a:gd name="adj1" fmla="val -32000"/>
                <a:gd name="adj2" fmla="val -177305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Verschied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Ordn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26C-D465-431D-8EC7-181DEE7EF6C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1C244-B84C-4DD7-A5A3-23A879BC72CC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354480" y="2514600"/>
          <a:ext cx="3197160" cy="21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4480" y="2514600"/>
                    <a:ext cx="31971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ue Nachrich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90720" y="1371600"/>
            <a:ext cx="794052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C8F-D49D-4291-AB6D-C894C61189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2D16E-6336-479C-BBFC-8B93E3032981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-Mail abruf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7560" y="1523880"/>
          <a:ext cx="1782720" cy="13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523880"/>
                    <a:ext cx="1782720" cy="13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"/>
          <p:cNvGrpSpPr/>
          <p:nvPr/>
        </p:nvGrpSpPr>
        <p:grpSpPr>
          <a:xfrm>
            <a:off x="3797280" y="1447920"/>
            <a:ext cx="5324040" cy="2477880"/>
            <a:chOff x="3797280" y="1447920"/>
            <a:chExt cx="5324040" cy="247788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778360" y="1447920"/>
              <a:ext cx="3342960" cy="24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797280" y="1981080"/>
              <a:ext cx="1155240" cy="609840"/>
            </a:xfrm>
            <a:prstGeom prst="rightArrow">
              <a:avLst>
                <a:gd name="adj1" fmla="val 50000"/>
                <a:gd name="adj2" fmla="val 47358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56520" y="4038480"/>
            <a:ext cx="2817360" cy="2187720"/>
            <a:chOff x="6356520" y="4038480"/>
            <a:chExt cx="2817360" cy="2187720"/>
          </a:xfrm>
        </p:grpSpPr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6356520" y="4448160"/>
              <a:ext cx="281736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430040" y="4038480"/>
              <a:ext cx="577800" cy="30492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43040" y="3886200"/>
            <a:ext cx="5200200" cy="2286000"/>
            <a:chOff x="743040" y="3886200"/>
            <a:chExt cx="5200200" cy="2286000"/>
          </a:xfrm>
        </p:grpSpPr>
        <p:sp>
          <p:nvSpPr>
            <p:cNvPr id="94" name=""/>
            <p:cNvSpPr/>
            <p:nvPr/>
          </p:nvSpPr>
          <p:spPr>
            <a:xfrm>
              <a:off x="4292640" y="4876920"/>
              <a:ext cx="1650600" cy="685800"/>
            </a:xfrm>
            <a:prstGeom prst="leftArrow">
              <a:avLst>
                <a:gd name="adj1" fmla="val 50000"/>
                <a:gd name="adj2" fmla="val 60171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43040" y="3886200"/>
              <a:ext cx="3053880" cy="2286000"/>
              <a:chOff x="743040" y="3886200"/>
              <a:chExt cx="3053880" cy="2286000"/>
            </a:xfrm>
          </p:grpSpPr>
          <p:sp>
            <p:nvSpPr>
              <p:cNvPr id="96" name=""/>
              <p:cNvSpPr/>
              <p:nvPr/>
            </p:nvSpPr>
            <p:spPr>
              <a:xfrm>
                <a:off x="743040" y="3886200"/>
                <a:ext cx="3053880" cy="2286000"/>
              </a:xfrm>
              <a:prstGeom prst="verticalScroll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24080" y="4800600"/>
                <a:ext cx="155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ff0000"/>
                    </a:solidFill>
                    <a:latin typeface="Arial"/>
                  </a:rPr>
                  <a:t>Mail les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CBE-B1D8-4D51-BFF9-8C84390528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97E9B-DCB1-4A8F-BC68-C2D22F93D8FA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-Mail les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43040" y="1523880"/>
            <a:ext cx="842004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590920"/>
            <a:ext cx="1485720" cy="228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37040" y="2971800"/>
            <a:ext cx="594360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8880" y="3505320"/>
            <a:ext cx="6521760" cy="2438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224-D1D6-40DF-AB53-1CFD22FF81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07709-48D2-42D4-AAFF-1C8A8850666E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819520" y="2819520"/>
          <a:ext cx="419076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19520"/>
                    <a:ext cx="41907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tscape Messeng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62120" y="1352520"/>
            <a:ext cx="83725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4192920" y="2210760"/>
            <a:ext cx="4768200" cy="2706120"/>
            <a:chOff x="4192920" y="2210760"/>
            <a:chExt cx="4768200" cy="2706120"/>
          </a:xfrm>
        </p:grpSpPr>
        <p:sp>
          <p:nvSpPr>
            <p:cNvPr id="108" name=""/>
            <p:cNvSpPr/>
            <p:nvPr/>
          </p:nvSpPr>
          <p:spPr>
            <a:xfrm>
              <a:off x="4192920" y="2210760"/>
              <a:ext cx="1217160" cy="496440"/>
            </a:xfrm>
            <a:prstGeom prst="wedgeRoundRectCallout">
              <a:avLst>
                <a:gd name="adj1" fmla="val -119245"/>
                <a:gd name="adj2" fmla="val -1478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Arial"/>
                </a:rPr>
                <a:t>Abl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040" y="4420440"/>
              <a:ext cx="1584360" cy="496440"/>
            </a:xfrm>
            <a:prstGeom prst="wedgeRoundRectCallout">
              <a:avLst>
                <a:gd name="adj1" fmla="val -126805"/>
                <a:gd name="adj2" fmla="val 4608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Arial"/>
                </a:rPr>
                <a:t>Nachric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11720" y="3048480"/>
              <a:ext cx="1949400" cy="891000"/>
            </a:xfrm>
            <a:prstGeom prst="wedgeRoundRectCallout">
              <a:avLst>
                <a:gd name="adj1" fmla="val -108435"/>
                <a:gd name="adj2" fmla="val -3881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Arial"/>
                </a:rPr>
                <a:t>Liste 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0000"/>
                  </a:solidFill>
                  <a:latin typeface="Arial"/>
                </a:rPr>
                <a:t>Nachrich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DDE-DECD-45CB-8A01-92B50A5351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1075C-11DD-4BD2-8EC7-4F10C09876FE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ue Nachrich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352680" y="1981080"/>
          <a:ext cx="325296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81080"/>
                    <a:ext cx="325296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8410320" cy="48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5F3-AA43-4E9A-97C7-8FAE7D7AD4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4D080-060F-4CBB-BE0D-AD917D95656D}" type="datetime8">
              <a:rPr lang="en-US"/>
              <a:t>07/28/26 23: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18:02:42Z</dcterms:created>
  <dc:creator>Olaf Schmidt</dc:creator>
  <dc:description/>
  <dc:language>en-US</dc:language>
  <cp:lastModifiedBy>Olaf Schmidt</cp:lastModifiedBy>
  <cp:lastPrinted>1999-04-15T22:28:21Z</cp:lastPrinted>
  <dcterms:modified xsi:type="dcterms:W3CDTF">1999-04-23T19:46:16Z</dcterms:modified>
  <cp:revision>11</cp:revision>
  <dc:subject/>
  <dc:title>Electronic Mail (E-Mail)</dc:title>
</cp:coreProperties>
</file>