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B57-19CD-406D-817F-A3E9E245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47F-3094-4A34-A6F6-E79A4A1E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C2F-A2F7-44C4-9731-96D97DCE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8E7-DE57-49BE-AC61-194BF77A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063-67F7-411A-8B03-97D6464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AC1-416B-4A46-AE40-162789CC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DA1-D54F-4007-8A9F-E5C7A371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400-5805-4D8F-995D-FF784665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C6C-B47E-499C-AB11-55CD419B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78C-6021-4E79-B85F-583DCEC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F7D-E2B6-45F5-BF2C-AB76B5B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594-E517-4B6A-805A-F2A4B2F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AA5F-2810-4C18-BFB1-468FF8CC9AB9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5CDB5A-E09E-4C1C-9489-A99C9889FFD4}" type="datetime10">
              <a:rPr b="0" lang="de-DE" sz="1400" spc="-1" strike="noStrike">
                <a:solidFill>
                  <a:srgbClr val="000000"/>
                </a:solidFill>
                <a:latin typeface="Arial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553C-EB53-4AC7-8A3C-CA25559F64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24120" y="3085560"/>
            <a:ext cx="461088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Die Technik des Interne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 Blick hinter die Kuliss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586-8CED-4A2A-B9E7-E14E4EC75E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A0F4B-2A9B-4644-B5E6-238D45FCFF40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09480" y="1182600"/>
          <a:ext cx="78789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2600"/>
                    <a:ext cx="787896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AC9-9A89-4C79-BD9E-E50A21A5D77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0928F-2D0F-452E-8068-CC5211644718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09480" y="1182600"/>
          <a:ext cx="78789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2600"/>
                    <a:ext cx="787896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DC0-9C1B-4EAD-AED9-0D7D45F7C4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08476-B73B-404F-A7DB-D2F162FBE41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09480" y="1106640"/>
          <a:ext cx="7878960" cy="50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06640"/>
                    <a:ext cx="7878960" cy="50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161-A0A8-4319-BF13-BD1DF321BB5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CE0DD-BCAB-477F-B385-F341AC68DAA8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914400" y="162000"/>
          <a:ext cx="7621560" cy="61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2000"/>
                    <a:ext cx="762156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02E-1A2C-43DC-823D-8F32A8FA06D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6B270-65FB-4171-A69A-30959533B51C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Adress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s gibt im Internet eine für jeden Rechner festgelegte Adresse, über die er von anderen Rechnern erreichbar ist und mit der er sich selbst im Netz identifizie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zeichnung</a:t>
            </a: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Zweck</a:t>
            </a: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ispiel</a:t>
            </a: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ost Adress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omain- / Host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rome.cs.bonn.edu IP Adress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numerisch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Adress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31.220.10.220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NS = Domain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Umrech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zwischen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s.denic.de (?)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me Server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ame und Adress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2193840"/>
                <a:tab algn="l" pos="5330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46B-D2FA-44FB-B37B-5F7C3D8035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0B933-C26A-4A6B-ABAE-F906C581DD6C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iform Resource Locator (UR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universelle Möglichkeit um Inhalte des Internet zu adress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ailto:</a:t>
            </a:r>
            <a:r>
              <a:rPr b="0" lang="de-DE" sz="2800" spc="-1" strike="noStrike">
                <a:solidFill>
                  <a:srgbClr val="00cc99"/>
                </a:solidFill>
                <a:latin typeface="Arial"/>
              </a:rPr>
              <a:t>ola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dodo.rhei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mailto:</a:t>
            </a:r>
            <a:r>
              <a:rPr b="0" lang="de-DE" sz="2800" spc="-1" strike="noStrike">
                <a:solidFill>
                  <a:srgbClr val="00cc99"/>
                </a:solidFill>
                <a:latin typeface="Arial"/>
              </a:rPr>
              <a:t>gat00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altenforst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b-S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http://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www.altenforst.de</a:t>
            </a:r>
            <a:r>
              <a:rPr b="0" lang="de-DE" sz="2800" spc="-1" strike="noStrike">
                <a:solidFill>
                  <a:srgbClr val="00cc99"/>
                </a:solidFill>
                <a:latin typeface="Arial"/>
              </a:rPr>
              <a:t>/sn-su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http://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titan.cs.bonn.edu</a:t>
            </a:r>
            <a:r>
              <a:rPr b="0" lang="de-DE" sz="2800" spc="-1" strike="noStrike">
                <a:solidFill>
                  <a:srgbClr val="00cc99"/>
                </a:solidFill>
                <a:latin typeface="Arial"/>
              </a:rPr>
              <a:t>/~schmidt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EC3-EECB-40F7-BB03-1E734EB386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6ED65-CE94-4648-A2CC-C4D989D908D0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tzwerk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uter werden verb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pferkabel, Glasf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, L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m, ISDN, Netzwerkk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uter „unterhalten sich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ten senden über die Leit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estgelegte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39E-3DD7-4311-8588-A40C3BA23C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BA69E-39EE-45A8-BBFC-2EC296A61DE4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Grundlag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fer Control Protocol / Internet Protoko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meinsame Basis für alle Teilnehmer am Ne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00400" y="205740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CP / I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B3A-9A81-4CED-A017-03B35C5CFD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B4780-A059-4FF5-8F8D-3E782E1C9396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582720" y="2133720"/>
            <a:ext cx="2145240" cy="1571760"/>
            <a:chOff x="3582720" y="2133720"/>
            <a:chExt cx="2145240" cy="1571760"/>
          </a:xfrm>
        </p:grpSpPr>
        <p:sp>
          <p:nvSpPr>
            <p:cNvPr id="64" name=""/>
            <p:cNvSpPr/>
            <p:nvPr/>
          </p:nvSpPr>
          <p:spPr>
            <a:xfrm>
              <a:off x="4191120" y="2133720"/>
              <a:ext cx="914400" cy="838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2720" y="3124080"/>
              <a:ext cx="214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Einzelpla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376280" y="4572000"/>
            <a:ext cx="64609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eine Kommunikation nach auß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44792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F55-A1DF-4246-86DF-B50024BB9D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50B8B-8D09-4FC6-80CB-5306C9865EBE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191120"/>
            <a:ext cx="7619760" cy="20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lle Knoten (Rechner) sind untereinander verb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en können direkt ausgetausch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144792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514600" y="2209680"/>
            <a:ext cx="4114800" cy="1877040"/>
            <a:chOff x="2514600" y="2209680"/>
            <a:chExt cx="4114800" cy="1877040"/>
          </a:xfrm>
        </p:grpSpPr>
        <p:sp>
          <p:nvSpPr>
            <p:cNvPr id="72" name=""/>
            <p:cNvSpPr/>
            <p:nvPr/>
          </p:nvSpPr>
          <p:spPr>
            <a:xfrm>
              <a:off x="5715000" y="2209680"/>
              <a:ext cx="914400" cy="83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04960" y="3505320"/>
              <a:ext cx="187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Netzwer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14600" y="2209680"/>
              <a:ext cx="914400" cy="83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"/>
            <p:cNvCxnSpPr>
              <a:stCxn id="74" idx="2"/>
              <a:endCxn id="72" idx="2"/>
            </p:cNvCxnSpPr>
            <p:nvPr/>
          </p:nvCxnSpPr>
          <p:spPr>
            <a:xfrm flipH="1" rot="16200000">
              <a:off x="4571280" y="1448280"/>
              <a:ext cx="2160" cy="3201120"/>
            </a:xfrm>
            <a:prstGeom prst="bentConnector3">
              <a:avLst>
                <a:gd name="adj1" fmla="val 14400000"/>
              </a:avLst>
            </a:prstGeom>
            <a:ln w="2844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608-00D2-415B-A8B3-EC99BABEC8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1F4F-A796-48BE-9E36-4AD17B645273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495680"/>
            <a:ext cx="76201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ennen Ihren Nachb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önnen Nachrichten weiterl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44792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09680" y="2133720"/>
            <a:ext cx="5029200" cy="1876680"/>
            <a:chOff x="2209680" y="2133720"/>
            <a:chExt cx="5029200" cy="1876680"/>
          </a:xfrm>
        </p:grpSpPr>
        <p:sp>
          <p:nvSpPr>
            <p:cNvPr id="80" name=""/>
            <p:cNvSpPr/>
            <p:nvPr/>
          </p:nvSpPr>
          <p:spPr>
            <a:xfrm>
              <a:off x="4191120" y="2133720"/>
              <a:ext cx="914400" cy="83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24480" y="2133720"/>
              <a:ext cx="914400" cy="83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2133720"/>
              <a:ext cx="914400" cy="8380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" name=""/>
            <p:cNvCxnSpPr>
              <a:stCxn id="82" idx="3"/>
              <a:endCxn id="80" idx="1"/>
            </p:cNvCxnSpPr>
            <p:nvPr/>
          </p:nvCxnSpPr>
          <p:spPr>
            <a:xfrm>
              <a:off x="3124080" y="2552400"/>
              <a:ext cx="1067760" cy="1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cxnSp>
          <p:nvCxnSpPr>
            <p:cNvPr id="84" name=""/>
            <p:cNvCxnSpPr>
              <a:stCxn id="80" idx="3"/>
              <a:endCxn id="81" idx="1"/>
            </p:cNvCxnSpPr>
            <p:nvPr/>
          </p:nvCxnSpPr>
          <p:spPr>
            <a:xfrm>
              <a:off x="5105520" y="2552400"/>
              <a:ext cx="1219680" cy="108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3887640" y="342900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820-6D39-4597-AC2C-08E73318AE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B593A-7C76-4C25-A379-C2F8C5BBF18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ins, zwei, drei, ganz vie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495680"/>
            <a:ext cx="76201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ennen Ihren Nachb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chner können Nachrichten weiterl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447920"/>
            <a:ext cx="67816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66680" y="1981080"/>
            <a:ext cx="6507720" cy="2181600"/>
            <a:chOff x="1066680" y="1981080"/>
            <a:chExt cx="6507720" cy="2181600"/>
          </a:xfrm>
        </p:grpSpPr>
        <p:sp>
          <p:nvSpPr>
            <p:cNvPr id="90" name=""/>
            <p:cNvSpPr/>
            <p:nvPr/>
          </p:nvSpPr>
          <p:spPr>
            <a:xfrm>
              <a:off x="1373040" y="358128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066680" y="1981080"/>
              <a:ext cx="6507720" cy="1752840"/>
              <a:chOff x="1066680" y="1981080"/>
              <a:chExt cx="6507720" cy="1752840"/>
            </a:xfrm>
          </p:grpSpPr>
          <p:sp>
            <p:nvSpPr>
              <p:cNvPr id="92" name=""/>
              <p:cNvSpPr/>
              <p:nvPr/>
            </p:nvSpPr>
            <p:spPr>
              <a:xfrm>
                <a:off x="2057400" y="1981080"/>
                <a:ext cx="380880" cy="381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71800" y="19810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66680" y="1981080"/>
                <a:ext cx="381240" cy="3812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5" name=""/>
              <p:cNvCxnSpPr>
                <a:stCxn id="94" idx="3"/>
                <a:endCxn id="92" idx="1"/>
              </p:cNvCxnSpPr>
              <p:nvPr/>
            </p:nvCxnSpPr>
            <p:spPr>
              <a:xfrm>
                <a:off x="1447560" y="2171520"/>
                <a:ext cx="61020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96" name=""/>
              <p:cNvCxnSpPr>
                <a:stCxn id="92" idx="3"/>
                <a:endCxn id="93" idx="1"/>
              </p:cNvCxnSpPr>
              <p:nvPr/>
            </p:nvCxnSpPr>
            <p:spPr>
              <a:xfrm>
                <a:off x="2438280" y="2171520"/>
                <a:ext cx="53424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sp>
            <p:nvSpPr>
              <p:cNvPr id="97" name=""/>
              <p:cNvSpPr/>
              <p:nvPr/>
            </p:nvSpPr>
            <p:spPr>
              <a:xfrm>
                <a:off x="4114800" y="19810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198108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4800" y="33526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638680" y="1981080"/>
                <a:ext cx="38124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05520" y="33526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34320" y="3352680"/>
                <a:ext cx="380880" cy="3812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34320" y="2819520"/>
                <a:ext cx="380880" cy="380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934320" y="2209680"/>
                <a:ext cx="380880" cy="3812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"/>
              <p:cNvCxnSpPr>
                <a:stCxn id="93" idx="3"/>
                <a:endCxn id="97" idx="1"/>
              </p:cNvCxnSpPr>
              <p:nvPr/>
            </p:nvCxnSpPr>
            <p:spPr>
              <a:xfrm>
                <a:off x="3352320" y="2171520"/>
                <a:ext cx="76284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06" name=""/>
              <p:cNvCxnSpPr>
                <a:stCxn id="97" idx="3"/>
                <a:endCxn id="98" idx="1"/>
              </p:cNvCxnSpPr>
              <p:nvPr/>
            </p:nvCxnSpPr>
            <p:spPr>
              <a:xfrm>
                <a:off x="4495680" y="2171520"/>
                <a:ext cx="45792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07" name=""/>
              <p:cNvCxnSpPr>
                <a:stCxn id="97" idx="2"/>
                <a:endCxn id="99" idx="0"/>
              </p:cNvCxnSpPr>
              <p:nvPr/>
            </p:nvCxnSpPr>
            <p:spPr>
              <a:xfrm flipV="1" rot="10800000">
                <a:off x="4304520" y="2361960"/>
                <a:ext cx="1080" cy="99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08" name=""/>
              <p:cNvCxnSpPr>
                <a:stCxn id="99" idx="3"/>
                <a:endCxn id="101" idx="1"/>
              </p:cNvCxnSpPr>
              <p:nvPr/>
            </p:nvCxnSpPr>
            <p:spPr>
              <a:xfrm>
                <a:off x="4495680" y="3543120"/>
                <a:ext cx="61056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09" name=""/>
              <p:cNvCxnSpPr>
                <a:stCxn id="101" idx="3"/>
                <a:endCxn id="102" idx="1"/>
              </p:cNvCxnSpPr>
              <p:nvPr/>
            </p:nvCxnSpPr>
            <p:spPr>
              <a:xfrm>
                <a:off x="5486400" y="3543120"/>
                <a:ext cx="144864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0" name=""/>
              <p:cNvCxnSpPr>
                <a:stCxn id="98" idx="2"/>
                <a:endCxn id="103" idx="1"/>
              </p:cNvCxnSpPr>
              <p:nvPr/>
            </p:nvCxnSpPr>
            <p:spPr>
              <a:xfrm flipH="1" rot="16200000">
                <a:off x="5715000" y="1790280"/>
                <a:ext cx="648360" cy="179136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1" name=""/>
              <p:cNvCxnSpPr>
                <a:stCxn id="98" idx="3"/>
                <a:endCxn id="100" idx="1"/>
              </p:cNvCxnSpPr>
              <p:nvPr/>
            </p:nvCxnSpPr>
            <p:spPr>
              <a:xfrm>
                <a:off x="5334120" y="2171520"/>
                <a:ext cx="305280" cy="108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2" name=""/>
              <p:cNvCxnSpPr>
                <a:stCxn id="100" idx="3"/>
                <a:endCxn id="104" idx="1"/>
              </p:cNvCxnSpPr>
              <p:nvPr/>
            </p:nvCxnSpPr>
            <p:spPr>
              <a:xfrm>
                <a:off x="6019920" y="2171520"/>
                <a:ext cx="915120" cy="229320"/>
              </a:xfrm>
              <a:prstGeom prst="bentConnector3">
                <a:avLst>
                  <a:gd name="adj1" fmla="val 49980"/>
                </a:avLst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3" name=""/>
              <p:cNvCxnSpPr>
                <a:stCxn id="104" idx="2"/>
                <a:endCxn id="103" idx="0"/>
              </p:cNvCxnSpPr>
              <p:nvPr/>
            </p:nvCxnSpPr>
            <p:spPr>
              <a:xfrm flipV="1" rot="10800000">
                <a:off x="7124040" y="2590560"/>
                <a:ext cx="1080" cy="22932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</a:ln>
            </p:spPr>
          </p:cxnSp>
          <p:cxnSp>
            <p:nvCxnSpPr>
              <p:cNvPr id="114" name=""/>
              <p:cNvCxnSpPr>
                <a:stCxn id="102" idx="3"/>
                <a:endCxn id="104" idx="3"/>
              </p:cNvCxnSpPr>
              <p:nvPr/>
            </p:nvCxnSpPr>
            <p:spPr>
              <a:xfrm flipV="1">
                <a:off x="7315200" y="2399760"/>
                <a:ext cx="2160" cy="1143720"/>
              </a:xfrm>
              <a:prstGeom prst="bentConnector3">
                <a:avLst>
                  <a:gd name="adj1" fmla="val 14400000"/>
                </a:avLst>
              </a:prstGeom>
              <a:ln w="28440">
                <a:solidFill>
                  <a:srgbClr val="ff0000"/>
                </a:solidFill>
                <a:miter/>
              </a:ln>
            </p:spPr>
          </p:cxnSp>
        </p:grpSp>
      </p:grpSp>
      <p:sp>
        <p:nvSpPr>
          <p:cNvPr id="115" name=""/>
          <p:cNvSpPr/>
          <p:nvPr/>
        </p:nvSpPr>
        <p:spPr>
          <a:xfrm>
            <a:off x="4649760" y="388620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&gt;2 Mio Rechner im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57120" y="1668960"/>
            <a:ext cx="6287040" cy="1873800"/>
            <a:chOff x="1257120" y="1668960"/>
            <a:chExt cx="6287040" cy="1873800"/>
          </a:xfrm>
        </p:grpSpPr>
        <p:cxnSp>
          <p:nvCxnSpPr>
            <p:cNvPr id="117" name=""/>
            <p:cNvCxnSpPr>
              <a:stCxn id="94" idx="0"/>
              <a:endCxn id="92" idx="0"/>
            </p:cNvCxnSpPr>
            <p:nvPr/>
          </p:nvCxnSpPr>
          <p:spPr>
            <a:xfrm flipH="1" rot="16200000">
              <a:off x="1751400" y="1485720"/>
              <a:ext cx="2520" cy="9910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92" idx="0"/>
              <a:endCxn id="93" idx="0"/>
            </p:cNvCxnSpPr>
            <p:nvPr/>
          </p:nvCxnSpPr>
          <p:spPr>
            <a:xfrm flipH="1" rot="16200000">
              <a:off x="2703960" y="1523520"/>
              <a:ext cx="2520" cy="915120"/>
            </a:xfrm>
            <a:prstGeom prst="curvedConnector5">
              <a:avLst>
                <a:gd name="adj1" fmla="val -14400000"/>
                <a:gd name="adj2" fmla="val 4998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93" idx="0"/>
              <a:endCxn id="97" idx="0"/>
            </p:cNvCxnSpPr>
            <p:nvPr/>
          </p:nvCxnSpPr>
          <p:spPr>
            <a:xfrm flipH="1" rot="16200000">
              <a:off x="3732480" y="1409400"/>
              <a:ext cx="2520" cy="11437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97" idx="0"/>
              <a:endCxn id="98" idx="0"/>
            </p:cNvCxnSpPr>
            <p:nvPr/>
          </p:nvCxnSpPr>
          <p:spPr>
            <a:xfrm flipH="1" rot="16200000">
              <a:off x="4723200" y="1561680"/>
              <a:ext cx="2520" cy="8391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98" idx="0"/>
              <a:endCxn id="100" idx="0"/>
            </p:cNvCxnSpPr>
            <p:nvPr/>
          </p:nvCxnSpPr>
          <p:spPr>
            <a:xfrm flipH="1" rot="16200000">
              <a:off x="5485320" y="1638000"/>
              <a:ext cx="2520" cy="6865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00" idx="0"/>
              <a:endCxn id="104" idx="0"/>
            </p:cNvCxnSpPr>
            <p:nvPr/>
          </p:nvCxnSpPr>
          <p:spPr>
            <a:xfrm flipH="1" rot="16200000">
              <a:off x="6362640" y="1446480"/>
              <a:ext cx="229320" cy="1296000"/>
            </a:xfrm>
            <a:prstGeom prst="curvedConnector5">
              <a:avLst>
                <a:gd name="adj1" fmla="val -100000"/>
                <a:gd name="adj2" fmla="val 49986"/>
                <a:gd name="adj3" fmla="val -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04" idx="0"/>
              <a:endCxn id="102" idx="3"/>
            </p:cNvCxnSpPr>
            <p:nvPr/>
          </p:nvCxnSpPr>
          <p:spPr>
            <a:xfrm flipH="1" rot="16200000">
              <a:off x="6552720" y="2780280"/>
              <a:ext cx="1334520" cy="191160"/>
            </a:xfrm>
            <a:prstGeom prst="curvedConnector5">
              <a:avLst>
                <a:gd name="adj1" fmla="val -17134"/>
                <a:gd name="adj2" fmla="val 110000"/>
                <a:gd name="adj3" fmla="val -171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972-C0DA-45CB-814E-6727EEE3A5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6F34D-8971-4C50-9FC5-88CDD83450BE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Trace Rout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lchen Weg nimmt eine Datenpa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t: der eigene Rechner (hier: Uni Bon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g: mehrere Knoten (Router, Host) im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: der Zielrechner (Ser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itangabe: Wie lange dauert es bis ein Paket den Knoten erreicht hat und wieder zurück gekommen 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A46-BBC3-4507-8AF8-D9C2681B51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284BF-00D2-42F8-A750-88D1AF0E0390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09480" y="1182600"/>
          <a:ext cx="7878960" cy="50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2600"/>
                    <a:ext cx="787896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EB3-77CA-48F9-BA01-416A55B651B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500DA-E238-4EEF-B821-B0D358A4DAC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21:26:20Z</dcterms:created>
  <dc:creator>Olaf Schmidt</dc:creator>
  <dc:description/>
  <dc:language>en-US</dc:language>
  <cp:lastModifiedBy>Olaf Schmidt</cp:lastModifiedBy>
  <cp:lastPrinted>1999-04-15T22:30:40Z</cp:lastPrinted>
  <dcterms:modified xsi:type="dcterms:W3CDTF">1999-04-23T19:46:14Z</dcterms:modified>
  <cp:revision>10</cp:revision>
  <dc:subject/>
  <dc:title>Die Technik des Internet</dc:title>
</cp:coreProperties>
</file>