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CE1F-1289-4F2C-8570-A8FE168B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19D1-3454-456B-ACCF-971E0D6C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0E9E-6F6B-4C6E-8D6C-8BC59A16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ED6C-B9E2-4ECC-A797-9504B41B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EBF5-3F05-4933-B1E4-93443BD3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A369-4AF6-408D-B915-CA925C58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9FFC-4109-4ADA-83BE-8606E806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0E79-8B18-40B5-A078-BD337360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D1FE-59D3-49AF-9CC2-F0CFE48A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A217-6174-427F-9AAA-243942F6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948B-C67B-462E-8A4C-383614A5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8288-59A4-41FF-ADF8-8D422386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85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017B-2118-4CAD-A1B4-2019AF4044F7}" type="datetime">
              <a:rPr b="0" lang="de-DE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0A4BF83-A902-47F3-AB33-410FB7DFA41D}" type="datetime10">
              <a:rPr b="0" lang="de-DE" sz="1400" spc="-1" strike="noStrike">
                <a:solidFill>
                  <a:srgbClr val="000000"/>
                </a:solidFill>
                <a:latin typeface="Arial"/>
              </a:rPr>
              <a:t>04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FE92-B153-480B-8BF2-74A12A8B141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248520"/>
            <a:ext cx="3049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" name=""/>
          <p:cNvCxnSpPr/>
          <p:nvPr/>
        </p:nvCxnSpPr>
        <p:spPr>
          <a:xfrm flipH="1" flipV="1" rot="5400000">
            <a:off x="56520" y="5886000"/>
            <a:ext cx="610560" cy="11484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" name=""/>
          <p:cNvSpPr/>
          <p:nvPr/>
        </p:nvSpPr>
        <p:spPr>
          <a:xfrm>
            <a:off x="304920" y="54100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48769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45720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52280" y="426708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52280" y="39625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" name=""/>
          <p:cNvCxnSpPr/>
          <p:nvPr/>
        </p:nvCxnSpPr>
        <p:spPr>
          <a:xfrm flipV="1" rot="16200000">
            <a:off x="190080" y="5180760"/>
            <a:ext cx="419760" cy="3888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3" name=""/>
          <p:cNvCxnSpPr/>
          <p:nvPr/>
        </p:nvCxnSpPr>
        <p:spPr>
          <a:xfrm flipV="1" rot="16200000">
            <a:off x="37800" y="5028480"/>
            <a:ext cx="724320" cy="3888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4" name=""/>
          <p:cNvCxnSpPr/>
          <p:nvPr/>
        </p:nvCxnSpPr>
        <p:spPr>
          <a:xfrm flipV="1" rot="16200000">
            <a:off x="-114480" y="4875840"/>
            <a:ext cx="1028880" cy="3888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5" name=""/>
          <p:cNvCxnSpPr/>
          <p:nvPr/>
        </p:nvCxnSpPr>
        <p:spPr>
          <a:xfrm flipV="1" rot="16200000">
            <a:off x="-267120" y="4723560"/>
            <a:ext cx="1334160" cy="3888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sp>
        <p:nvSpPr>
          <p:cNvPr id="16" name=""/>
          <p:cNvSpPr/>
          <p:nvPr/>
        </p:nvSpPr>
        <p:spPr>
          <a:xfrm>
            <a:off x="8610480" y="5562720"/>
            <a:ext cx="38124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" name=""/>
          <p:cNvCxnSpPr/>
          <p:nvPr/>
        </p:nvCxnSpPr>
        <p:spPr>
          <a:xfrm flipV="1">
            <a:off x="457200" y="5943240"/>
            <a:ext cx="8344800" cy="457920"/>
          </a:xfrm>
          <a:prstGeom prst="bentConnector2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8" name=""/>
          <p:cNvCxnSpPr/>
          <p:nvPr/>
        </p:nvCxnSpPr>
        <p:spPr>
          <a:xfrm flipV="1" rot="16200000">
            <a:off x="6324120" y="3085560"/>
            <a:ext cx="4610880" cy="343800"/>
          </a:xfrm>
          <a:prstGeom prst="bentConnector2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Grundlagen Netzwerk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undlagen Netzwerke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1DB5-C1D1-4829-80C6-D61120B840F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054B0-EE70-4270-B64A-F63A9F8CAF3F}" type="datetime8">
              <a:rPr lang="en-US"/>
              <a:t>07/30/26 04: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ISO-OSI Model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85800" y="1905120"/>
            <a:ext cx="6170040" cy="1066680"/>
            <a:chOff x="685800" y="1905120"/>
            <a:chExt cx="6170040" cy="1066680"/>
          </a:xfrm>
        </p:grpSpPr>
        <p:sp>
          <p:nvSpPr>
            <p:cNvPr id="131" name=""/>
            <p:cNvSpPr/>
            <p:nvPr/>
          </p:nvSpPr>
          <p:spPr>
            <a:xfrm>
              <a:off x="685800" y="1905120"/>
              <a:ext cx="342900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53640" y="2133720"/>
              <a:ext cx="230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85800" y="4678200"/>
            <a:ext cx="6401160" cy="581400"/>
            <a:chOff x="685800" y="4678200"/>
            <a:chExt cx="6401160" cy="581400"/>
          </a:xfrm>
        </p:grpSpPr>
        <p:sp>
          <p:nvSpPr>
            <p:cNvPr id="134" name=""/>
            <p:cNvSpPr/>
            <p:nvPr/>
          </p:nvSpPr>
          <p:spPr>
            <a:xfrm>
              <a:off x="685800" y="4800600"/>
              <a:ext cx="34290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56160" y="4678200"/>
              <a:ext cx="253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Lokales Net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85800" y="2971800"/>
            <a:ext cx="7940520" cy="1523880"/>
            <a:chOff x="685800" y="2971800"/>
            <a:chExt cx="7940520" cy="1523880"/>
          </a:xfrm>
        </p:grpSpPr>
        <p:sp>
          <p:nvSpPr>
            <p:cNvPr id="137" name=""/>
            <p:cNvSpPr/>
            <p:nvPr/>
          </p:nvSpPr>
          <p:spPr>
            <a:xfrm>
              <a:off x="685800" y="3276720"/>
              <a:ext cx="34290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5800" y="4038480"/>
              <a:ext cx="34290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56160" y="2971800"/>
              <a:ext cx="4070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Internet weite Kommunika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19720" y="3124080"/>
              <a:ext cx="136440" cy="1219320"/>
            </a:xfrm>
            <a:custGeom>
              <a:avLst/>
              <a:gdLst>
                <a:gd name="textAreaLeft" fmla="*/ 0 w 136440"/>
                <a:gd name="textAreaRight" fmla="*/ 49320 w 1364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85800" y="5440320"/>
            <a:ext cx="7619760" cy="581400"/>
            <a:chOff x="685800" y="5440320"/>
            <a:chExt cx="7619760" cy="581400"/>
          </a:xfrm>
        </p:grpSpPr>
        <p:sp>
          <p:nvSpPr>
            <p:cNvPr id="142" name=""/>
            <p:cNvSpPr/>
            <p:nvPr/>
          </p:nvSpPr>
          <p:spPr>
            <a:xfrm>
              <a:off x="685800" y="5562720"/>
              <a:ext cx="34290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54360" y="5440320"/>
              <a:ext cx="23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Kabel, HU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7619760" y="5791320"/>
              <a:ext cx="685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undlagen Netzwerke - Olaf Schmi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E3A7-85AA-4D03-8B5C-CE97E51F81F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7E1FE-A1C1-4C77-8A96-33CE49028486}" type="datetime8">
              <a:rPr lang="en-US"/>
              <a:t>07/30/26 04: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Physical Lay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ax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wisted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lasf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ktive Gerä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idge,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ans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chnolog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Fast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ken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undlagen Netzwerke - Olaf Schmid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A9E0-B1DF-4D52-8AD6-25E1AF91FD70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03B31-D7B3-4B50-AA04-A5DCAE4857E0}" type="datetime8">
              <a:rPr lang="en-US"/>
              <a:t>07/30/26 04: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Beispiel Szenario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50" idx="2"/>
            <a:endCxn id="151" idx="2"/>
          </p:cNvCxnSpPr>
          <p:nvPr/>
        </p:nvCxnSpPr>
        <p:spPr>
          <a:xfrm flipH="1" flipV="1" rot="5400000">
            <a:off x="3354120" y="1863360"/>
            <a:ext cx="2160" cy="1231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" name=""/>
          <p:cNvCxnSpPr>
            <a:stCxn id="151" idx="2"/>
            <a:endCxn id="153" idx="2"/>
          </p:cNvCxnSpPr>
          <p:nvPr/>
        </p:nvCxnSpPr>
        <p:spPr>
          <a:xfrm flipH="1" rot="16200000">
            <a:off x="4851360" y="1596240"/>
            <a:ext cx="2160" cy="176580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3" idx="2"/>
            <a:endCxn id="155" idx="2"/>
          </p:cNvCxnSpPr>
          <p:nvPr/>
        </p:nvCxnSpPr>
        <p:spPr>
          <a:xfrm flipH="1" rot="16200000">
            <a:off x="6268320" y="1945080"/>
            <a:ext cx="2160" cy="106776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stCxn id="155" idx="2"/>
            <a:endCxn id="157" idx="2"/>
          </p:cNvCxnSpPr>
          <p:nvPr/>
        </p:nvCxnSpPr>
        <p:spPr>
          <a:xfrm flipH="1" rot="16200000">
            <a:off x="7259040" y="2021400"/>
            <a:ext cx="2160" cy="9151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59" idx="0"/>
            <a:endCxn id="157" idx="2"/>
          </p:cNvCxnSpPr>
          <p:nvPr/>
        </p:nvCxnSpPr>
        <p:spPr>
          <a:xfrm flipV="1">
            <a:off x="7716600" y="2477880"/>
            <a:ext cx="1080" cy="1716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>
            <a:stCxn id="159" idx="0"/>
            <a:endCxn id="161" idx="0"/>
          </p:cNvCxnSpPr>
          <p:nvPr/>
        </p:nvCxnSpPr>
        <p:spPr>
          <a:xfrm rot="5400000">
            <a:off x="7182000" y="3660480"/>
            <a:ext cx="2520" cy="106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61" idx="0"/>
            <a:endCxn id="163" idx="0"/>
          </p:cNvCxnSpPr>
          <p:nvPr/>
        </p:nvCxnSpPr>
        <p:spPr>
          <a:xfrm rot="5400000">
            <a:off x="6114960" y="3660480"/>
            <a:ext cx="2520" cy="1067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365724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6680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s Top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G58 K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NC Steck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T-Stück an jeder S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dwiderstä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0 Mbit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50" idx="2"/>
          </p:cNvCxnSpPr>
          <p:nvPr/>
        </p:nvCxnSpPr>
        <p:spPr>
          <a:xfrm rot="5400000">
            <a:off x="2521080" y="2472480"/>
            <a:ext cx="211680" cy="22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2438280" y="2614680"/>
            <a:ext cx="7632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3" idx="0"/>
          </p:cNvCxnSpPr>
          <p:nvPr/>
        </p:nvCxnSpPr>
        <p:spPr>
          <a:xfrm flipV="1" rot="16200000">
            <a:off x="5354280" y="3964680"/>
            <a:ext cx="208440" cy="249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8" name=""/>
          <p:cNvSpPr/>
          <p:nvPr/>
        </p:nvSpPr>
        <p:spPr>
          <a:xfrm>
            <a:off x="5257800" y="3909960"/>
            <a:ext cx="7632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14400" y="1549440"/>
            <a:ext cx="2455200" cy="1860120"/>
            <a:chOff x="914400" y="1549440"/>
            <a:chExt cx="2455200" cy="1860120"/>
          </a:xfrm>
        </p:grpSpPr>
        <p:cxnSp>
          <p:nvCxnSpPr>
            <p:cNvPr id="170" name=""/>
            <p:cNvCxnSpPr>
              <a:stCxn id="150" idx="1"/>
              <a:endCxn id="171" idx="3"/>
            </p:cNvCxnSpPr>
            <p:nvPr/>
          </p:nvCxnSpPr>
          <p:spPr>
            <a:xfrm flipV="1" rot="10800000">
              <a:off x="1828080" y="2014200"/>
              <a:ext cx="457920" cy="864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172" name=""/>
            <p:cNvGrpSpPr/>
            <p:nvPr/>
          </p:nvGrpSpPr>
          <p:grpSpPr>
            <a:xfrm>
              <a:off x="914400" y="1549440"/>
              <a:ext cx="2455200" cy="1860120"/>
              <a:chOff x="914400" y="1549440"/>
              <a:chExt cx="2455200" cy="1860120"/>
            </a:xfrm>
          </p:grpSpPr>
          <p:pic>
            <p:nvPicPr>
              <p:cNvPr id="1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0" y="1549440"/>
                <a:ext cx="907920" cy="93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14400" y="15652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957600" y="2766960"/>
                <a:ext cx="95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288160" y="2766960"/>
                <a:ext cx="1081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Router /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K-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3637080" y="1547640"/>
            <a:ext cx="816840" cy="1785600"/>
            <a:chOff x="3637080" y="1547640"/>
            <a:chExt cx="816840" cy="1785600"/>
          </a:xfrm>
        </p:grpSpPr>
        <p:pic>
          <p:nvPicPr>
            <p:cNvPr id="178" name="" descr=""/>
            <p:cNvPicPr/>
            <p:nvPr/>
          </p:nvPicPr>
          <p:blipFill>
            <a:blip r:embed="rId3"/>
            <a:stretch/>
          </p:blipFill>
          <p:spPr>
            <a:xfrm>
              <a:off x="3637080" y="1547640"/>
              <a:ext cx="664920" cy="9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3639240" y="2690640"/>
              <a:ext cx="81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il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181480" y="1754280"/>
            <a:ext cx="3643920" cy="3163680"/>
            <a:chOff x="5181480" y="1754280"/>
            <a:chExt cx="3643920" cy="3163680"/>
          </a:xfrm>
        </p:grpSpPr>
        <p:pic>
          <p:nvPicPr>
            <p:cNvPr id="181" name="" descr=""/>
            <p:cNvPicPr/>
            <p:nvPr/>
          </p:nvPicPr>
          <p:blipFill>
            <a:blip r:embed="rId4"/>
            <a:stretch/>
          </p:blipFill>
          <p:spPr>
            <a:xfrm>
              <a:off x="7315200" y="1754280"/>
              <a:ext cx="801720" cy="7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5"/>
            <a:stretch/>
          </p:blipFill>
          <p:spPr>
            <a:xfrm>
              <a:off x="7315200" y="4194000"/>
              <a:ext cx="801720" cy="7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6"/>
            <a:stretch/>
          </p:blipFill>
          <p:spPr>
            <a:xfrm>
              <a:off x="5334120" y="1754280"/>
              <a:ext cx="801720" cy="7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7"/>
            <a:stretch/>
          </p:blipFill>
          <p:spPr>
            <a:xfrm>
              <a:off x="6400800" y="1754280"/>
              <a:ext cx="801720" cy="7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8"/>
            <a:stretch/>
          </p:blipFill>
          <p:spPr>
            <a:xfrm>
              <a:off x="5181480" y="4194000"/>
              <a:ext cx="801720" cy="7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9"/>
            <a:stretch/>
          </p:blipFill>
          <p:spPr>
            <a:xfrm>
              <a:off x="6248520" y="4194000"/>
              <a:ext cx="80172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719480" y="2690640"/>
              <a:ext cx="110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rbeits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tation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undlagen Netzwerke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DB1B-9B92-4B05-A004-BFCC9480A12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40721-7910-46B7-B103-90E43D880BBF}" type="datetime8">
              <a:rPr lang="en-US"/>
              <a:t>07/30/26 04: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Twisted Pair (TP)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365724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6680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rn Top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ichleitungen vom HUB zu jedem Ger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P Kabel (UTP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0 Mbit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914400" y="1547640"/>
            <a:ext cx="7911000" cy="3370320"/>
            <a:chOff x="914400" y="1547640"/>
            <a:chExt cx="7911000" cy="3370320"/>
          </a:xfrm>
        </p:grpSpPr>
        <p:grpSp>
          <p:nvGrpSpPr>
            <p:cNvPr id="191" name=""/>
            <p:cNvGrpSpPr/>
            <p:nvPr/>
          </p:nvGrpSpPr>
          <p:grpSpPr>
            <a:xfrm>
              <a:off x="914400" y="1549440"/>
              <a:ext cx="2455200" cy="1860120"/>
              <a:chOff x="914400" y="1549440"/>
              <a:chExt cx="2455200" cy="1860120"/>
            </a:xfrm>
          </p:grpSpPr>
          <p:cxnSp>
            <p:nvCxnSpPr>
              <p:cNvPr id="192" name=""/>
              <p:cNvCxnSpPr>
                <a:stCxn id="193" idx="1"/>
                <a:endCxn id="194" idx="3"/>
              </p:cNvCxnSpPr>
              <p:nvPr/>
            </p:nvCxnSpPr>
            <p:spPr>
              <a:xfrm flipV="1" rot="10800000">
                <a:off x="1828080" y="2014200"/>
                <a:ext cx="457920" cy="8640"/>
              </a:xfrm>
              <a:prstGeom prst="bentConnector3">
                <a:avLst>
                  <a:gd name="adj1" fmla="val 4996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195" name=""/>
              <p:cNvGrpSpPr/>
              <p:nvPr/>
            </p:nvGrpSpPr>
            <p:grpSpPr>
              <a:xfrm>
                <a:off x="914400" y="1549440"/>
                <a:ext cx="2455200" cy="1860120"/>
                <a:chOff x="914400" y="1549440"/>
                <a:chExt cx="2455200" cy="1860120"/>
              </a:xfrm>
            </p:grpSpPr>
            <p:pic>
              <p:nvPicPr>
                <p:cNvPr id="19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86000" y="1549440"/>
                  <a:ext cx="907920" cy="93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14400" y="1565280"/>
                  <a:ext cx="91440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>
                  <a:off x="957600" y="2766960"/>
                  <a:ext cx="955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Interne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88160" y="2766960"/>
                  <a:ext cx="10814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Router /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K-Serve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3637080" y="1547640"/>
              <a:ext cx="816840" cy="1785600"/>
              <a:chOff x="3637080" y="1547640"/>
              <a:chExt cx="816840" cy="1785600"/>
            </a:xfrm>
          </p:grpSpPr>
          <p:pic>
            <p:nvPicPr>
              <p:cNvPr id="2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637080" y="1547640"/>
                <a:ext cx="664920" cy="93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>
                <a:off x="3639240" y="2690640"/>
                <a:ext cx="814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File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5181480" y="1754280"/>
              <a:ext cx="3643920" cy="3163680"/>
              <a:chOff x="5181480" y="1754280"/>
              <a:chExt cx="3643920" cy="3163680"/>
            </a:xfrm>
          </p:grpSpPr>
          <p:pic>
            <p:nvPicPr>
              <p:cNvPr id="20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315200" y="1754280"/>
                <a:ext cx="801720" cy="72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315200" y="4194000"/>
                <a:ext cx="801720" cy="72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1754280"/>
                <a:ext cx="801720" cy="72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400800" y="1754280"/>
                <a:ext cx="801720" cy="72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181480" y="4194000"/>
                <a:ext cx="801720" cy="72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248520" y="4194000"/>
                <a:ext cx="801720" cy="72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7719480" y="2690640"/>
                <a:ext cx="1105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Arbeits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statione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11" name=""/>
          <p:cNvCxnSpPr>
            <a:stCxn id="212" idx="0"/>
            <a:endCxn id="206" idx="2"/>
          </p:cNvCxnSpPr>
          <p:nvPr/>
        </p:nvCxnSpPr>
        <p:spPr>
          <a:xfrm flipH="1" flipV="1">
            <a:off x="5735160" y="2477520"/>
            <a:ext cx="915120" cy="579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212" idx="0"/>
            <a:endCxn id="207" idx="2"/>
          </p:cNvCxnSpPr>
          <p:nvPr/>
        </p:nvCxnSpPr>
        <p:spPr>
          <a:xfrm flipV="1">
            <a:off x="6649920" y="2477520"/>
            <a:ext cx="153360" cy="579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4" name=""/>
          <p:cNvCxnSpPr>
            <a:stCxn id="212" idx="3"/>
            <a:endCxn id="204" idx="2"/>
          </p:cNvCxnSpPr>
          <p:nvPr/>
        </p:nvCxnSpPr>
        <p:spPr>
          <a:xfrm flipV="1">
            <a:off x="7259760" y="2477520"/>
            <a:ext cx="457920" cy="88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212" idx="3"/>
            <a:endCxn id="205" idx="0"/>
          </p:cNvCxnSpPr>
          <p:nvPr/>
        </p:nvCxnSpPr>
        <p:spPr>
          <a:xfrm>
            <a:off x="7259760" y="3357360"/>
            <a:ext cx="457920" cy="837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" name=""/>
          <p:cNvCxnSpPr>
            <a:stCxn id="212" idx="2"/>
            <a:endCxn id="209" idx="0"/>
          </p:cNvCxnSpPr>
          <p:nvPr/>
        </p:nvCxnSpPr>
        <p:spPr>
          <a:xfrm>
            <a:off x="6649560" y="3657600"/>
            <a:ext cx="108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212" idx="1"/>
            <a:endCxn id="201" idx="2"/>
          </p:cNvCxnSpPr>
          <p:nvPr/>
        </p:nvCxnSpPr>
        <p:spPr>
          <a:xfrm flipH="1" flipV="1">
            <a:off x="3970080" y="2477520"/>
            <a:ext cx="2070720" cy="88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8" name=""/>
          <p:cNvCxnSpPr>
            <a:stCxn id="212" idx="1"/>
            <a:endCxn id="196" idx="2"/>
          </p:cNvCxnSpPr>
          <p:nvPr/>
        </p:nvCxnSpPr>
        <p:spPr>
          <a:xfrm flipH="1" flipV="1">
            <a:off x="2739600" y="2478960"/>
            <a:ext cx="3301200" cy="878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6040440" y="3057480"/>
            <a:ext cx="1219320" cy="600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2" idx="2"/>
            <a:endCxn id="208" idx="0"/>
          </p:cNvCxnSpPr>
          <p:nvPr/>
        </p:nvCxnSpPr>
        <p:spPr>
          <a:xfrm flipH="1">
            <a:off x="5582520" y="3657600"/>
            <a:ext cx="10674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undlagen Netzwerke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3729-664E-4870-9031-1014C29E004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40848-8DAF-4F22-A9F9-EFBF05A42C3D}" type="datetime8">
              <a:rPr lang="en-US"/>
              <a:t>07/30/26 04: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Fast Etherne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365724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6680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rn Top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ichleitungen vom HUB zu jedem Ger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P Kabel (UTP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0 Mbit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ver m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00 Mbit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914400" y="1547640"/>
            <a:ext cx="7911000" cy="3370320"/>
            <a:chOff x="914400" y="1547640"/>
            <a:chExt cx="7911000" cy="3370320"/>
          </a:xfrm>
        </p:grpSpPr>
        <p:grpSp>
          <p:nvGrpSpPr>
            <p:cNvPr id="223" name=""/>
            <p:cNvGrpSpPr/>
            <p:nvPr/>
          </p:nvGrpSpPr>
          <p:grpSpPr>
            <a:xfrm>
              <a:off x="914400" y="1549440"/>
              <a:ext cx="2455200" cy="1860120"/>
              <a:chOff x="914400" y="1549440"/>
              <a:chExt cx="2455200" cy="1860120"/>
            </a:xfrm>
          </p:grpSpPr>
          <p:cxnSp>
            <p:nvCxnSpPr>
              <p:cNvPr id="224" name=""/>
              <p:cNvCxnSpPr>
                <a:stCxn id="225" idx="1"/>
                <a:endCxn id="226" idx="3"/>
              </p:cNvCxnSpPr>
              <p:nvPr/>
            </p:nvCxnSpPr>
            <p:spPr>
              <a:xfrm flipV="1" rot="10800000">
                <a:off x="1828080" y="2014200"/>
                <a:ext cx="457920" cy="8640"/>
              </a:xfrm>
              <a:prstGeom prst="bentConnector3">
                <a:avLst>
                  <a:gd name="adj1" fmla="val 4996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227" name=""/>
              <p:cNvGrpSpPr/>
              <p:nvPr/>
            </p:nvGrpSpPr>
            <p:grpSpPr>
              <a:xfrm>
                <a:off x="914400" y="1549440"/>
                <a:ext cx="2455200" cy="1860120"/>
                <a:chOff x="914400" y="1549440"/>
                <a:chExt cx="2455200" cy="1860120"/>
              </a:xfrm>
            </p:grpSpPr>
            <p:pic>
              <p:nvPicPr>
                <p:cNvPr id="22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86000" y="1549440"/>
                  <a:ext cx="907920" cy="93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14400" y="1565280"/>
                  <a:ext cx="91440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0" name=""/>
                <p:cNvSpPr/>
                <p:nvPr/>
              </p:nvSpPr>
              <p:spPr>
                <a:xfrm>
                  <a:off x="957600" y="2766960"/>
                  <a:ext cx="955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Interne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288160" y="2766960"/>
                  <a:ext cx="10814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Router /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K-Serve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2" name=""/>
            <p:cNvGrpSpPr/>
            <p:nvPr/>
          </p:nvGrpSpPr>
          <p:grpSpPr>
            <a:xfrm>
              <a:off x="3637080" y="1547640"/>
              <a:ext cx="816840" cy="1785600"/>
              <a:chOff x="3637080" y="1547640"/>
              <a:chExt cx="816840" cy="1785600"/>
            </a:xfrm>
          </p:grpSpPr>
          <p:pic>
            <p:nvPicPr>
              <p:cNvPr id="23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637080" y="1547640"/>
                <a:ext cx="664920" cy="93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3639240" y="2690640"/>
                <a:ext cx="814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File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5181480" y="1754280"/>
              <a:ext cx="3643920" cy="3163680"/>
              <a:chOff x="5181480" y="1754280"/>
              <a:chExt cx="3643920" cy="3163680"/>
            </a:xfrm>
          </p:grpSpPr>
          <p:pic>
            <p:nvPicPr>
              <p:cNvPr id="23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315200" y="1754280"/>
                <a:ext cx="801720" cy="72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315200" y="4194000"/>
                <a:ext cx="801720" cy="72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1754280"/>
                <a:ext cx="801720" cy="72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400800" y="1754280"/>
                <a:ext cx="801720" cy="72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181480" y="4194000"/>
                <a:ext cx="801720" cy="72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248520" y="4194000"/>
                <a:ext cx="801720" cy="72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7719480" y="2690640"/>
                <a:ext cx="1105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Arbeits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statione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3" name=""/>
          <p:cNvGrpSpPr/>
          <p:nvPr/>
        </p:nvGrpSpPr>
        <p:grpSpPr>
          <a:xfrm>
            <a:off x="2739240" y="2477520"/>
            <a:ext cx="4977720" cy="1716840"/>
            <a:chOff x="2739240" y="2477520"/>
            <a:chExt cx="4977720" cy="1716840"/>
          </a:xfrm>
        </p:grpSpPr>
        <p:sp>
          <p:nvSpPr>
            <p:cNvPr id="244" name=""/>
            <p:cNvSpPr/>
            <p:nvPr/>
          </p:nvSpPr>
          <p:spPr>
            <a:xfrm>
              <a:off x="6135840" y="2971800"/>
              <a:ext cx="1331640" cy="600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5" name=""/>
            <p:cNvCxnSpPr>
              <a:stCxn id="244" idx="0"/>
              <a:endCxn id="238" idx="2"/>
            </p:cNvCxnSpPr>
            <p:nvPr/>
          </p:nvCxnSpPr>
          <p:spPr>
            <a:xfrm flipH="1" flipV="1">
              <a:off x="5735160" y="2477520"/>
              <a:ext cx="1067760" cy="494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6" name=""/>
            <p:cNvCxnSpPr>
              <a:stCxn id="244" idx="0"/>
              <a:endCxn id="239" idx="2"/>
            </p:cNvCxnSpPr>
            <p:nvPr/>
          </p:nvCxnSpPr>
          <p:spPr>
            <a:xfrm flipV="1">
              <a:off x="6802200" y="2477520"/>
              <a:ext cx="1080" cy="494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7" name=""/>
            <p:cNvCxnSpPr>
              <a:stCxn id="244" idx="3"/>
              <a:endCxn id="236" idx="2"/>
            </p:cNvCxnSpPr>
            <p:nvPr/>
          </p:nvCxnSpPr>
          <p:spPr>
            <a:xfrm flipV="1">
              <a:off x="7467120" y="2477880"/>
              <a:ext cx="250200" cy="79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8" name=""/>
            <p:cNvCxnSpPr>
              <a:stCxn id="244" idx="3"/>
              <a:endCxn id="237" idx="0"/>
            </p:cNvCxnSpPr>
            <p:nvPr/>
          </p:nvCxnSpPr>
          <p:spPr>
            <a:xfrm>
              <a:off x="7467120" y="3271680"/>
              <a:ext cx="250200" cy="923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9" name=""/>
            <p:cNvCxnSpPr>
              <a:stCxn id="244" idx="2"/>
              <a:endCxn id="241" idx="0"/>
            </p:cNvCxnSpPr>
            <p:nvPr/>
          </p:nvCxnSpPr>
          <p:spPr>
            <a:xfrm flipH="1">
              <a:off x="6649560" y="3571920"/>
              <a:ext cx="153360" cy="62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0" name=""/>
            <p:cNvCxnSpPr>
              <a:stCxn id="244" idx="1"/>
              <a:endCxn id="233" idx="2"/>
            </p:cNvCxnSpPr>
            <p:nvPr/>
          </p:nvCxnSpPr>
          <p:spPr>
            <a:xfrm flipH="1" flipV="1">
              <a:off x="3969720" y="2477880"/>
              <a:ext cx="2166120" cy="79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51" name=""/>
            <p:cNvCxnSpPr>
              <a:stCxn id="244" idx="1"/>
              <a:endCxn id="228" idx="2"/>
            </p:cNvCxnSpPr>
            <p:nvPr/>
          </p:nvCxnSpPr>
          <p:spPr>
            <a:xfrm flipH="1" flipV="1">
              <a:off x="2739240" y="2479320"/>
              <a:ext cx="3396600" cy="792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52" name=""/>
            <p:cNvCxnSpPr>
              <a:stCxn id="244" idx="2"/>
              <a:endCxn id="240" idx="0"/>
            </p:cNvCxnSpPr>
            <p:nvPr/>
          </p:nvCxnSpPr>
          <p:spPr>
            <a:xfrm flipH="1">
              <a:off x="5582520" y="3571920"/>
              <a:ext cx="1220040" cy="62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undlagen Netzwerke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7D66-56A8-4C5A-B844-FCEFFF85A5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BEE40-F85D-444D-AAC0-B7BC58CA21F9}" type="datetime8">
              <a:rPr lang="en-US"/>
              <a:t>07/30/26 04: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Stern / Baum Topologi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365724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6680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rn + Baum Top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P Kabel (UTP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ichleitungen vom HUB zu jedem Ger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ver m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00 Mbit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914400" y="1547640"/>
            <a:ext cx="7911000" cy="3370320"/>
            <a:chOff x="914400" y="1547640"/>
            <a:chExt cx="7911000" cy="3370320"/>
          </a:xfrm>
        </p:grpSpPr>
        <p:grpSp>
          <p:nvGrpSpPr>
            <p:cNvPr id="256" name=""/>
            <p:cNvGrpSpPr/>
            <p:nvPr/>
          </p:nvGrpSpPr>
          <p:grpSpPr>
            <a:xfrm>
              <a:off x="914400" y="1549440"/>
              <a:ext cx="2455200" cy="1860120"/>
              <a:chOff x="914400" y="1549440"/>
              <a:chExt cx="2455200" cy="1860120"/>
            </a:xfrm>
          </p:grpSpPr>
          <p:cxnSp>
            <p:nvCxnSpPr>
              <p:cNvPr id="257" name=""/>
              <p:cNvCxnSpPr>
                <a:stCxn id="258" idx="1"/>
                <a:endCxn id="259" idx="3"/>
              </p:cNvCxnSpPr>
              <p:nvPr/>
            </p:nvCxnSpPr>
            <p:spPr>
              <a:xfrm flipV="1" rot="10800000">
                <a:off x="1828080" y="2014200"/>
                <a:ext cx="457920" cy="8640"/>
              </a:xfrm>
              <a:prstGeom prst="bentConnector3">
                <a:avLst>
                  <a:gd name="adj1" fmla="val 4996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260" name=""/>
              <p:cNvGrpSpPr/>
              <p:nvPr/>
            </p:nvGrpSpPr>
            <p:grpSpPr>
              <a:xfrm>
                <a:off x="914400" y="1549440"/>
                <a:ext cx="2455200" cy="1860120"/>
                <a:chOff x="914400" y="1549440"/>
                <a:chExt cx="2455200" cy="1860120"/>
              </a:xfrm>
            </p:grpSpPr>
            <p:pic>
              <p:nvPicPr>
                <p:cNvPr id="26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86000" y="1549440"/>
                  <a:ext cx="907920" cy="93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14400" y="1565280"/>
                  <a:ext cx="91440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3" name=""/>
                <p:cNvSpPr/>
                <p:nvPr/>
              </p:nvSpPr>
              <p:spPr>
                <a:xfrm>
                  <a:off x="957600" y="2766960"/>
                  <a:ext cx="955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Interne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288160" y="2766960"/>
                  <a:ext cx="10814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Router /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K-Serve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5" name=""/>
            <p:cNvGrpSpPr/>
            <p:nvPr/>
          </p:nvGrpSpPr>
          <p:grpSpPr>
            <a:xfrm>
              <a:off x="3637080" y="1547640"/>
              <a:ext cx="816840" cy="1785600"/>
              <a:chOff x="3637080" y="1547640"/>
              <a:chExt cx="816840" cy="1785600"/>
            </a:xfrm>
          </p:grpSpPr>
          <p:pic>
            <p:nvPicPr>
              <p:cNvPr id="26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637080" y="1547640"/>
                <a:ext cx="664920" cy="93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>
                <a:off x="3639240" y="2690640"/>
                <a:ext cx="814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File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5181480" y="1754280"/>
              <a:ext cx="3643920" cy="3163680"/>
              <a:chOff x="5181480" y="1754280"/>
              <a:chExt cx="3643920" cy="3163680"/>
            </a:xfrm>
          </p:grpSpPr>
          <p:pic>
            <p:nvPicPr>
              <p:cNvPr id="26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315200" y="1754280"/>
                <a:ext cx="801720" cy="72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315200" y="4194000"/>
                <a:ext cx="801720" cy="72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1754280"/>
                <a:ext cx="801720" cy="72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400800" y="1754280"/>
                <a:ext cx="801720" cy="72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181480" y="4194000"/>
                <a:ext cx="801720" cy="72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248520" y="4194000"/>
                <a:ext cx="801720" cy="72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>
                <a:off x="7719480" y="2690640"/>
                <a:ext cx="1105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Arbeits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statione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6" name=""/>
          <p:cNvGrpSpPr/>
          <p:nvPr/>
        </p:nvGrpSpPr>
        <p:grpSpPr>
          <a:xfrm>
            <a:off x="3970440" y="2478240"/>
            <a:ext cx="1612800" cy="655560"/>
            <a:chOff x="3970440" y="2478240"/>
            <a:chExt cx="1612800" cy="655560"/>
          </a:xfrm>
        </p:grpSpPr>
        <p:sp>
          <p:nvSpPr>
            <p:cNvPr id="277" name=""/>
            <p:cNvSpPr/>
            <p:nvPr/>
          </p:nvSpPr>
          <p:spPr>
            <a:xfrm>
              <a:off x="4800600" y="2600280"/>
              <a:ext cx="78264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S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8" name=""/>
            <p:cNvCxnSpPr>
              <a:stCxn id="266" idx="2"/>
              <a:endCxn id="277" idx="1"/>
            </p:cNvCxnSpPr>
            <p:nvPr/>
          </p:nvCxnSpPr>
          <p:spPr>
            <a:xfrm>
              <a:off x="3970440" y="2478240"/>
              <a:ext cx="830880" cy="389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</p:grpSp>
      <p:cxnSp>
        <p:nvCxnSpPr>
          <p:cNvPr id="279" name=""/>
          <p:cNvCxnSpPr>
            <a:stCxn id="277" idx="1"/>
            <a:endCxn id="261" idx="2"/>
          </p:cNvCxnSpPr>
          <p:nvPr/>
        </p:nvCxnSpPr>
        <p:spPr>
          <a:xfrm flipH="1" flipV="1">
            <a:off x="2739600" y="2479320"/>
            <a:ext cx="2061360" cy="388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0" name=""/>
          <p:cNvGrpSpPr/>
          <p:nvPr/>
        </p:nvGrpSpPr>
        <p:grpSpPr>
          <a:xfrm>
            <a:off x="5582880" y="2477880"/>
            <a:ext cx="2133720" cy="690840"/>
            <a:chOff x="5582880" y="2477880"/>
            <a:chExt cx="2133720" cy="690840"/>
          </a:xfrm>
        </p:grpSpPr>
        <p:sp>
          <p:nvSpPr>
            <p:cNvPr id="281" name=""/>
            <p:cNvSpPr/>
            <p:nvPr/>
          </p:nvSpPr>
          <p:spPr>
            <a:xfrm>
              <a:off x="6135840" y="2766960"/>
              <a:ext cx="1066680" cy="40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HUB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2" name=""/>
            <p:cNvCxnSpPr>
              <a:stCxn id="281" idx="0"/>
              <a:endCxn id="271" idx="2"/>
            </p:cNvCxnSpPr>
            <p:nvPr/>
          </p:nvCxnSpPr>
          <p:spPr>
            <a:xfrm flipH="1" flipV="1">
              <a:off x="5734800" y="2477880"/>
              <a:ext cx="93420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3" name=""/>
            <p:cNvCxnSpPr>
              <a:stCxn id="281" idx="0"/>
              <a:endCxn id="272" idx="2"/>
            </p:cNvCxnSpPr>
            <p:nvPr/>
          </p:nvCxnSpPr>
          <p:spPr>
            <a:xfrm flipV="1">
              <a:off x="6668640" y="2477880"/>
              <a:ext cx="13428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4" name=""/>
            <p:cNvCxnSpPr>
              <a:stCxn id="281" idx="0"/>
              <a:endCxn id="269" idx="2"/>
            </p:cNvCxnSpPr>
            <p:nvPr/>
          </p:nvCxnSpPr>
          <p:spPr>
            <a:xfrm flipV="1">
              <a:off x="6668640" y="2477880"/>
              <a:ext cx="104832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stCxn id="277" idx="3"/>
              <a:endCxn id="281" idx="1"/>
            </p:cNvCxnSpPr>
            <p:nvPr/>
          </p:nvCxnSpPr>
          <p:spPr>
            <a:xfrm>
              <a:off x="5582880" y="2867040"/>
              <a:ext cx="553320" cy="102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286" name=""/>
          <p:cNvGrpSpPr/>
          <p:nvPr/>
        </p:nvGrpSpPr>
        <p:grpSpPr>
          <a:xfrm>
            <a:off x="5192640" y="3133440"/>
            <a:ext cx="2523960" cy="1060200"/>
            <a:chOff x="5192640" y="3133440"/>
            <a:chExt cx="2523960" cy="1060200"/>
          </a:xfrm>
        </p:grpSpPr>
        <p:sp>
          <p:nvSpPr>
            <p:cNvPr id="287" name=""/>
            <p:cNvSpPr/>
            <p:nvPr/>
          </p:nvSpPr>
          <p:spPr>
            <a:xfrm>
              <a:off x="6135840" y="3581280"/>
              <a:ext cx="1066680" cy="351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HUB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"/>
            <p:cNvCxnSpPr>
              <a:stCxn id="287" idx="2"/>
              <a:endCxn id="270" idx="0"/>
            </p:cNvCxnSpPr>
            <p:nvPr/>
          </p:nvCxnSpPr>
          <p:spPr>
            <a:xfrm>
              <a:off x="6668640" y="3931920"/>
              <a:ext cx="104832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>
              <a:stCxn id="287" idx="2"/>
              <a:endCxn id="274" idx="0"/>
            </p:cNvCxnSpPr>
            <p:nvPr/>
          </p:nvCxnSpPr>
          <p:spPr>
            <a:xfrm flipH="1">
              <a:off x="6649200" y="3931920"/>
              <a:ext cx="1980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0" name=""/>
            <p:cNvCxnSpPr>
              <a:stCxn id="287" idx="2"/>
              <a:endCxn id="273" idx="0"/>
            </p:cNvCxnSpPr>
            <p:nvPr/>
          </p:nvCxnSpPr>
          <p:spPr>
            <a:xfrm flipH="1">
              <a:off x="5582880" y="3931920"/>
              <a:ext cx="10864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1" name=""/>
            <p:cNvCxnSpPr>
              <a:stCxn id="277" idx="2"/>
              <a:endCxn id="287" idx="1"/>
            </p:cNvCxnSpPr>
            <p:nvPr/>
          </p:nvCxnSpPr>
          <p:spPr>
            <a:xfrm>
              <a:off x="5192640" y="3133440"/>
              <a:ext cx="943920" cy="62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undlagen Netzwerke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2B21-7CD5-41F6-8690-BBAED1DAAB2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7AA55-F2F1-4EF2-B759-5F57DB3F0379}" type="datetime8">
              <a:rPr lang="en-US"/>
              <a:t>07/30/26 04: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ISO-OSI Model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2209680"/>
            <a:ext cx="3429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2971800"/>
            <a:ext cx="3429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3733920"/>
            <a:ext cx="3429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4495680"/>
            <a:ext cx="3429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5257800"/>
            <a:ext cx="3429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56520" y="207324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56160" y="2971800"/>
            <a:ext cx="407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ternet weite Kommunik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56160" y="4373640"/>
            <a:ext cx="253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okales Ne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54360" y="51354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abel, H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19720" y="2819520"/>
            <a:ext cx="136440" cy="1218960"/>
          </a:xfrm>
          <a:custGeom>
            <a:avLst/>
            <a:gdLst>
              <a:gd name="textAreaLeft" fmla="*/ 0 w 136440"/>
              <a:gd name="textAreaRight" fmla="*/ 49320 w 13644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7619760" y="472428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undlagen Netzwerke - Olaf Schmi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3E0-8E59-49A7-8D59-1E587CB489A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6E46D-32B8-4F2D-B2EF-F100ADF7B0D8}" type="datetime8">
              <a:rPr lang="en-US"/>
              <a:t>07/30/26 04: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Data Link Lay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dre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C Adresse identifiziert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auf der Netzwerkkarte eingebran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ltweit eindeut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Station kann direkt an jede andere s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tenfor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P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PX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802.2 - 802.3 - 80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undlagen Netzwerke - Olaf Schmid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5FC-DA10-473D-9625-9B232B109409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FBA9C-6F87-4CB9-991D-EE4F7A0889AC}" type="datetime8">
              <a:rPr lang="en-US"/>
              <a:t>07/30/26 04: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Network + Transport Lay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 zwischen verschiedenen Netzen weiterl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ge wäh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lußkonto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unkt-zu-Punkt-Verbin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chere Datenübertragung (TC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sichere Übertragung (UD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undlagen Netzwerke - Olaf Schmid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0747-B0E6-4F2F-9B49-6A55070C72DA}" type="slidenum">
              <a:t>1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9B3D5-BF74-4A1F-A5C3-786858259028}" type="datetime8">
              <a:rPr lang="en-US"/>
              <a:t>07/30/26 04: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Netze in Schule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Ne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ach, günst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cher, 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istungsge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entraler, sicherer 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ansparent, ausfallsi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Schüler 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hrere PCs in „Rechnerräum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wisse Zugangs-konto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kapput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ach zu bed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dent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Verwal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gener Be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undlagen Netzwerke - Olaf Schmid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C19D-E7DA-484F-9595-511B68EB651F}" type="slidenum">
              <a:t>1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3800C-6B7F-4BFA-A1D0-6651733C75BC}" type="datetime8">
              <a:rPr lang="en-US"/>
              <a:t>07/30/26 04: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Übersich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okale Net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tze in Schu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undlagen Netzwerke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8877-3E85-48C4-A646-F2EEDCAE407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88C55-DBB5-42E9-B63B-92F2507E292F}" type="datetime8">
              <a:rPr lang="en-US"/>
              <a:t>07/30/26 04: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Schul Netz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85800" y="1565280"/>
            <a:ext cx="2959560" cy="1650960"/>
            <a:chOff x="685800" y="1565280"/>
            <a:chExt cx="2959560" cy="1650960"/>
          </a:xfrm>
        </p:grpSpPr>
        <p:pic>
          <p:nvPicPr>
            <p:cNvPr id="315" name="" descr=""/>
            <p:cNvPicPr/>
            <p:nvPr/>
          </p:nvPicPr>
          <p:blipFill>
            <a:blip r:embed="rId1"/>
            <a:stretch/>
          </p:blipFill>
          <p:spPr>
            <a:xfrm>
              <a:off x="990720" y="2286000"/>
              <a:ext cx="664920" cy="9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685800" y="1565280"/>
              <a:ext cx="2114640" cy="581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ff0000"/>
                  </a:solidFill>
                  <a:latin typeface="Arial"/>
                </a:rPr>
                <a:t>Ser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7" name=""/>
            <p:cNvCxnSpPr>
              <a:stCxn id="315" idx="3"/>
              <a:endCxn id="318" idx="1"/>
            </p:cNvCxnSpPr>
            <p:nvPr/>
          </p:nvCxnSpPr>
          <p:spPr>
            <a:xfrm>
              <a:off x="1655640" y="2750760"/>
              <a:ext cx="1990080" cy="160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</p:grpSp>
      <p:grpSp>
        <p:nvGrpSpPr>
          <p:cNvPr id="319" name=""/>
          <p:cNvGrpSpPr/>
          <p:nvPr/>
        </p:nvGrpSpPr>
        <p:grpSpPr>
          <a:xfrm>
            <a:off x="4495680" y="1447920"/>
            <a:ext cx="3870360" cy="4876560"/>
            <a:chOff x="4495680" y="1447920"/>
            <a:chExt cx="3870360" cy="4876560"/>
          </a:xfrm>
        </p:grpSpPr>
        <p:sp>
          <p:nvSpPr>
            <p:cNvPr id="320" name=""/>
            <p:cNvSpPr/>
            <p:nvPr/>
          </p:nvSpPr>
          <p:spPr>
            <a:xfrm>
              <a:off x="7716960" y="2690640"/>
              <a:ext cx="169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59680" y="1565280"/>
              <a:ext cx="1969920" cy="112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172200" y="4952880"/>
              <a:ext cx="2057400" cy="11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" descr=""/>
            <p:cNvPicPr/>
            <p:nvPr/>
          </p:nvPicPr>
          <p:blipFill>
            <a:blip r:embed="rId2"/>
            <a:stretch/>
          </p:blipFill>
          <p:spPr>
            <a:xfrm>
              <a:off x="7315200" y="1754280"/>
              <a:ext cx="801720" cy="7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3"/>
            <a:stretch/>
          </p:blipFill>
          <p:spPr>
            <a:xfrm>
              <a:off x="6400800" y="1754280"/>
              <a:ext cx="801720" cy="7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4"/>
            <a:stretch/>
          </p:blipFill>
          <p:spPr>
            <a:xfrm>
              <a:off x="7326360" y="5175360"/>
              <a:ext cx="801720" cy="7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5"/>
            <a:stretch/>
          </p:blipFill>
          <p:spPr>
            <a:xfrm>
              <a:off x="6259680" y="5175360"/>
              <a:ext cx="80136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6705720" y="3637080"/>
              <a:ext cx="1660320" cy="581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ff0000"/>
                  </a:solidFill>
                  <a:latin typeface="Arial"/>
                </a:rPr>
                <a:t>Schül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8" name=""/>
            <p:cNvCxnSpPr>
              <a:stCxn id="321" idx="1"/>
              <a:endCxn id="318" idx="7"/>
            </p:cNvCxnSpPr>
            <p:nvPr/>
          </p:nvCxnSpPr>
          <p:spPr>
            <a:xfrm flipH="1">
              <a:off x="5422680" y="2128680"/>
              <a:ext cx="837360" cy="78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9" name=""/>
            <p:cNvCxnSpPr>
              <a:stCxn id="318" idx="5"/>
              <a:endCxn id="322" idx="1"/>
            </p:cNvCxnSpPr>
            <p:nvPr/>
          </p:nvCxnSpPr>
          <p:spPr>
            <a:xfrm>
              <a:off x="5422680" y="4674960"/>
              <a:ext cx="749880" cy="87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30" name=""/>
            <p:cNvSpPr/>
            <p:nvPr/>
          </p:nvSpPr>
          <p:spPr>
            <a:xfrm>
              <a:off x="4495680" y="1447920"/>
              <a:ext cx="0" cy="4876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761760" y="3809880"/>
            <a:ext cx="3733560" cy="2334240"/>
            <a:chOff x="761760" y="3809880"/>
            <a:chExt cx="3733560" cy="2334240"/>
          </a:xfrm>
        </p:grpSpPr>
        <p:pic>
          <p:nvPicPr>
            <p:cNvPr id="332" name="" descr=""/>
            <p:cNvPicPr/>
            <p:nvPr/>
          </p:nvPicPr>
          <p:blipFill>
            <a:blip r:embed="rId6"/>
            <a:stretch/>
          </p:blipFill>
          <p:spPr>
            <a:xfrm>
              <a:off x="853920" y="4694400"/>
              <a:ext cx="801720" cy="72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762120" y="5562720"/>
              <a:ext cx="2382840" cy="581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ff0000"/>
                  </a:solidFill>
                  <a:latin typeface="Arial"/>
                </a:rPr>
                <a:t>Verwaltu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4952880"/>
              <a:ext cx="485640" cy="17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5" name=""/>
            <p:cNvCxnSpPr>
              <a:stCxn id="332" idx="3"/>
              <a:endCxn id="334" idx="2"/>
            </p:cNvCxnSpPr>
            <p:nvPr/>
          </p:nvCxnSpPr>
          <p:spPr>
            <a:xfrm flipV="1">
              <a:off x="1655280" y="5040000"/>
              <a:ext cx="250200" cy="16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6" name=""/>
            <p:cNvCxnSpPr>
              <a:stCxn id="334" idx="6"/>
              <a:endCxn id="318" idx="3"/>
            </p:cNvCxnSpPr>
            <p:nvPr/>
          </p:nvCxnSpPr>
          <p:spPr>
            <a:xfrm flipV="1">
              <a:off x="2390760" y="4674960"/>
              <a:ext cx="1254960" cy="36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37" name=""/>
            <p:cNvSpPr/>
            <p:nvPr/>
          </p:nvSpPr>
          <p:spPr>
            <a:xfrm flipH="1">
              <a:off x="761760" y="3809880"/>
              <a:ext cx="37335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4038480" y="3505320"/>
            <a:ext cx="990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2585880"/>
            <a:ext cx="2514600" cy="2414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undlagen Netzwerke - Olaf Schmi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AEFB-4D4B-43DA-A2B1-AF9CCE798C3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0BCED-3BA8-44EE-B016-218618925125}" type="datetime8">
              <a:rPr lang="en-US"/>
              <a:t>07/30/26 04: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Koste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4486320" y="1387440"/>
          <a:ext cx="3971880" cy="485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6320" y="1387440"/>
                    <a:ext cx="397188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505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sten orientieren sich 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äumlichen Gegebenh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zahl 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tz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künftiger Aus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nanzieller 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undlagen Netzwerke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F60-6CDF-4EE2-BE3C-BDD57B57320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14557-AEC6-4DC1-BA42-245E727DA8C6}" type="datetime8">
              <a:rPr lang="en-US"/>
              <a:t>07/30/26 04: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Vielen Dank!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ind noch Fragen off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undlagen Netzwerke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F2EA-1FD3-4933-ABB6-A1CEB926C1C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A3D91D-1FE9-4649-9F6E-1D84F7A424A4}" type="datetime8">
              <a:rPr lang="en-US"/>
              <a:t>07/30/26 04: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Netzwerk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mputer werden verbu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upferkabel, Glasfa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unk, La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m, ISDN, Netzwerkk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mputer „unterhalten sich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ten senden über die Leit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estgelegte Protoko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undlagen Netzwerke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2255-EC1A-4CD2-8682-84BF061C42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1E8D9-5C5F-49CD-A6B2-A1920127545E}" type="datetime8">
              <a:rPr lang="en-US"/>
              <a:t>07/30/26 04: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Grundlag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352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36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ransfer Control Protocol / Internet Protoko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spcAft>
                <a:spcPts val="36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meinsame Basis für alle Teilnehmer am Ne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00400" y="205740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CP / IP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undlagen Netzwerke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D790-F61F-4A97-9E15-43DB7FCB09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CF05A-B98D-48E3-B231-F5E7410FD8CE}" type="datetime8">
              <a:rPr lang="en-US"/>
              <a:t>07/30/26 04: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Eins, zwei, drei, ganz viel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82720" y="2133720"/>
            <a:ext cx="2145240" cy="1571760"/>
            <a:chOff x="3582720" y="2133720"/>
            <a:chExt cx="2145240" cy="1571760"/>
          </a:xfrm>
        </p:grpSpPr>
        <p:sp>
          <p:nvSpPr>
            <p:cNvPr id="66" name=""/>
            <p:cNvSpPr/>
            <p:nvPr/>
          </p:nvSpPr>
          <p:spPr>
            <a:xfrm>
              <a:off x="4191120" y="2133720"/>
              <a:ext cx="914400" cy="838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2720" y="3124080"/>
              <a:ext cx="214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Einzelplat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376280" y="4572000"/>
            <a:ext cx="646092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lle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eine Kommunikation nach auß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1447920"/>
            <a:ext cx="13716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undlagen Netzwerke - Olaf Schmi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B8DD-5F62-45B2-99EC-6E24AFCF78E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31F9E-64CC-4986-9F84-B8B1A3A01996}" type="datetime8">
              <a:rPr lang="en-US"/>
              <a:t>07/30/26 04: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Eins, zwei, drei, ganz viel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4191120"/>
            <a:ext cx="7619760" cy="20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lle Knoten (Rechner) sind untereinander verbu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ten können direkt ausgetauscht we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1447920"/>
            <a:ext cx="28195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514600" y="2209680"/>
            <a:ext cx="4114800" cy="1877040"/>
            <a:chOff x="2514600" y="2209680"/>
            <a:chExt cx="4114800" cy="1877040"/>
          </a:xfrm>
        </p:grpSpPr>
        <p:sp>
          <p:nvSpPr>
            <p:cNvPr id="74" name=""/>
            <p:cNvSpPr/>
            <p:nvPr/>
          </p:nvSpPr>
          <p:spPr>
            <a:xfrm>
              <a:off x="5715000" y="2209680"/>
              <a:ext cx="914400" cy="838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04960" y="3505320"/>
              <a:ext cx="187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Netzwer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14600" y="2209680"/>
              <a:ext cx="914400" cy="838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" name=""/>
            <p:cNvCxnSpPr>
              <a:stCxn id="76" idx="2"/>
              <a:endCxn id="74" idx="2"/>
            </p:cNvCxnSpPr>
            <p:nvPr/>
          </p:nvCxnSpPr>
          <p:spPr>
            <a:xfrm flipH="1" rot="16200000">
              <a:off x="4571280" y="1448280"/>
              <a:ext cx="2160" cy="3201120"/>
            </a:xfrm>
            <a:prstGeom prst="bentConnector3">
              <a:avLst>
                <a:gd name="adj1" fmla="val 14400000"/>
              </a:avLst>
            </a:prstGeom>
            <a:ln w="28440">
              <a:solidFill>
                <a:srgbClr val="ff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undlagen Netzwerke - Olaf Schmi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3259-C7DB-4CAE-8E82-EA3A8B75868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58736-99E5-4526-9522-909ACA431AE6}" type="datetime8">
              <a:rPr lang="en-US"/>
              <a:t>07/30/26 04: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Eins, zwei, drei, ganz viel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4495680"/>
            <a:ext cx="7620120" cy="155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chner kennen Ihren Nachb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chner können Nachrichten weiterl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1447920"/>
            <a:ext cx="40384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209680" y="2133720"/>
            <a:ext cx="5029200" cy="1876680"/>
            <a:chOff x="2209680" y="2133720"/>
            <a:chExt cx="5029200" cy="1876680"/>
          </a:xfrm>
        </p:grpSpPr>
        <p:sp>
          <p:nvSpPr>
            <p:cNvPr id="82" name=""/>
            <p:cNvSpPr/>
            <p:nvPr/>
          </p:nvSpPr>
          <p:spPr>
            <a:xfrm>
              <a:off x="4191120" y="2133720"/>
              <a:ext cx="914400" cy="838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24480" y="2133720"/>
              <a:ext cx="914400" cy="83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09680" y="2133720"/>
              <a:ext cx="914400" cy="838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" name=""/>
            <p:cNvCxnSpPr>
              <a:stCxn id="84" idx="3"/>
              <a:endCxn id="82" idx="1"/>
            </p:cNvCxnSpPr>
            <p:nvPr/>
          </p:nvCxnSpPr>
          <p:spPr>
            <a:xfrm>
              <a:off x="3124080" y="2552400"/>
              <a:ext cx="1067760" cy="108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</a:ln>
          </p:spPr>
        </p:cxnSp>
        <p:cxnSp>
          <p:nvCxnSpPr>
            <p:cNvPr id="86" name=""/>
            <p:cNvCxnSpPr>
              <a:stCxn id="82" idx="3"/>
              <a:endCxn id="83" idx="1"/>
            </p:cNvCxnSpPr>
            <p:nvPr/>
          </p:nvCxnSpPr>
          <p:spPr>
            <a:xfrm>
              <a:off x="5105520" y="2552400"/>
              <a:ext cx="1219680" cy="108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</a:ln>
          </p:spPr>
        </p:cxnSp>
        <p:sp>
          <p:nvSpPr>
            <p:cNvPr id="87" name=""/>
            <p:cNvSpPr/>
            <p:nvPr/>
          </p:nvSpPr>
          <p:spPr>
            <a:xfrm>
              <a:off x="3887640" y="3429000"/>
              <a:ext cx="157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Rout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undlagen Netzwerke - Olaf Schmi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5558-EAAB-4EE0-AD29-BAA0D55EDC3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1DD5F-D7FA-40C3-B3F1-E0EB758C6B11}" type="datetime8">
              <a:rPr lang="en-US"/>
              <a:t>07/30/26 04: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Eins, zwei, drei, ganz viel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4495680"/>
            <a:ext cx="7620120" cy="155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chner kennen Ihren Nachb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chner können Nachrichten weiterl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447920"/>
            <a:ext cx="67816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066680" y="1981080"/>
            <a:ext cx="6507720" cy="2181600"/>
            <a:chOff x="1066680" y="1981080"/>
            <a:chExt cx="6507720" cy="2181600"/>
          </a:xfrm>
        </p:grpSpPr>
        <p:sp>
          <p:nvSpPr>
            <p:cNvPr id="92" name=""/>
            <p:cNvSpPr/>
            <p:nvPr/>
          </p:nvSpPr>
          <p:spPr>
            <a:xfrm>
              <a:off x="1373040" y="3581280"/>
              <a:ext cx="157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Rout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1066680" y="1981080"/>
              <a:ext cx="6507720" cy="1752840"/>
              <a:chOff x="1066680" y="1981080"/>
              <a:chExt cx="6507720" cy="1752840"/>
            </a:xfrm>
          </p:grpSpPr>
          <p:sp>
            <p:nvSpPr>
              <p:cNvPr id="94" name=""/>
              <p:cNvSpPr/>
              <p:nvPr/>
            </p:nvSpPr>
            <p:spPr>
              <a:xfrm>
                <a:off x="2057400" y="1981080"/>
                <a:ext cx="380880" cy="381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971800" y="1981080"/>
                <a:ext cx="380880" cy="3812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066680" y="1981080"/>
                <a:ext cx="381240" cy="38124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7" name=""/>
              <p:cNvCxnSpPr>
                <a:stCxn id="96" idx="3"/>
                <a:endCxn id="94" idx="1"/>
              </p:cNvCxnSpPr>
              <p:nvPr/>
            </p:nvCxnSpPr>
            <p:spPr>
              <a:xfrm>
                <a:off x="1447560" y="2171520"/>
                <a:ext cx="610200" cy="1080"/>
              </a:xfrm>
              <a:prstGeom prst="bentConnector2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98" name=""/>
              <p:cNvCxnSpPr>
                <a:stCxn id="94" idx="3"/>
                <a:endCxn id="95" idx="1"/>
              </p:cNvCxnSpPr>
              <p:nvPr/>
            </p:nvCxnSpPr>
            <p:spPr>
              <a:xfrm>
                <a:off x="2438280" y="2171520"/>
                <a:ext cx="534240" cy="1080"/>
              </a:xfrm>
              <a:prstGeom prst="bentConnector2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sp>
            <p:nvSpPr>
              <p:cNvPr id="99" name=""/>
              <p:cNvSpPr/>
              <p:nvPr/>
            </p:nvSpPr>
            <p:spPr>
              <a:xfrm>
                <a:off x="4114800" y="1981080"/>
                <a:ext cx="380880" cy="3812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952880" y="1981080"/>
                <a:ext cx="381240" cy="3812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114800" y="3352680"/>
                <a:ext cx="380880" cy="3812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638680" y="1981080"/>
                <a:ext cx="381240" cy="3812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105520" y="3352680"/>
                <a:ext cx="380880" cy="3812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934320" y="3352680"/>
                <a:ext cx="380880" cy="38124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934320" y="2819520"/>
                <a:ext cx="380880" cy="380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209680"/>
                <a:ext cx="380880" cy="3812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7" name=""/>
              <p:cNvCxnSpPr>
                <a:stCxn id="95" idx="3"/>
                <a:endCxn id="99" idx="1"/>
              </p:cNvCxnSpPr>
              <p:nvPr/>
            </p:nvCxnSpPr>
            <p:spPr>
              <a:xfrm>
                <a:off x="3352320" y="2171520"/>
                <a:ext cx="762840" cy="1080"/>
              </a:xfrm>
              <a:prstGeom prst="bentConnector2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108" name=""/>
              <p:cNvCxnSpPr>
                <a:stCxn id="99" idx="3"/>
                <a:endCxn id="100" idx="1"/>
              </p:cNvCxnSpPr>
              <p:nvPr/>
            </p:nvCxnSpPr>
            <p:spPr>
              <a:xfrm>
                <a:off x="4495680" y="2171520"/>
                <a:ext cx="457920" cy="1080"/>
              </a:xfrm>
              <a:prstGeom prst="bentConnector2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109" name=""/>
              <p:cNvCxnSpPr>
                <a:stCxn id="99" idx="2"/>
                <a:endCxn id="101" idx="0"/>
              </p:cNvCxnSpPr>
              <p:nvPr/>
            </p:nvCxnSpPr>
            <p:spPr>
              <a:xfrm flipV="1" rot="10800000">
                <a:off x="4304520" y="2361960"/>
                <a:ext cx="1080" cy="991080"/>
              </a:xfrm>
              <a:prstGeom prst="bentConnector2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110" name=""/>
              <p:cNvCxnSpPr>
                <a:stCxn id="101" idx="3"/>
                <a:endCxn id="103" idx="1"/>
              </p:cNvCxnSpPr>
              <p:nvPr/>
            </p:nvCxnSpPr>
            <p:spPr>
              <a:xfrm>
                <a:off x="4495680" y="3543120"/>
                <a:ext cx="610560" cy="1080"/>
              </a:xfrm>
              <a:prstGeom prst="bentConnector2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111" name=""/>
              <p:cNvCxnSpPr>
                <a:stCxn id="103" idx="3"/>
                <a:endCxn id="104" idx="1"/>
              </p:cNvCxnSpPr>
              <p:nvPr/>
            </p:nvCxnSpPr>
            <p:spPr>
              <a:xfrm>
                <a:off x="5486400" y="3543120"/>
                <a:ext cx="1448640" cy="1080"/>
              </a:xfrm>
              <a:prstGeom prst="bentConnector2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112" name=""/>
              <p:cNvCxnSpPr>
                <a:stCxn id="100" idx="2"/>
                <a:endCxn id="105" idx="1"/>
              </p:cNvCxnSpPr>
              <p:nvPr/>
            </p:nvCxnSpPr>
            <p:spPr>
              <a:xfrm flipH="1" rot="16200000">
                <a:off x="5715000" y="1790280"/>
                <a:ext cx="648360" cy="1791360"/>
              </a:xfrm>
              <a:prstGeom prst="bentConnector2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113" name=""/>
              <p:cNvCxnSpPr>
                <a:stCxn id="100" idx="3"/>
                <a:endCxn id="102" idx="1"/>
              </p:cNvCxnSpPr>
              <p:nvPr/>
            </p:nvCxnSpPr>
            <p:spPr>
              <a:xfrm>
                <a:off x="5334120" y="2171520"/>
                <a:ext cx="305280" cy="1080"/>
              </a:xfrm>
              <a:prstGeom prst="bentConnector2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114" name=""/>
              <p:cNvCxnSpPr>
                <a:stCxn id="102" idx="3"/>
                <a:endCxn id="106" idx="1"/>
              </p:cNvCxnSpPr>
              <p:nvPr/>
            </p:nvCxnSpPr>
            <p:spPr>
              <a:xfrm>
                <a:off x="6019920" y="2171520"/>
                <a:ext cx="915120" cy="229320"/>
              </a:xfrm>
              <a:prstGeom prst="bentConnector3">
                <a:avLst>
                  <a:gd name="adj1" fmla="val 49980"/>
                </a:avLst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115" name=""/>
              <p:cNvCxnSpPr>
                <a:stCxn id="106" idx="2"/>
                <a:endCxn id="105" idx="0"/>
              </p:cNvCxnSpPr>
              <p:nvPr/>
            </p:nvCxnSpPr>
            <p:spPr>
              <a:xfrm flipV="1" rot="10800000">
                <a:off x="7124040" y="2590560"/>
                <a:ext cx="1080" cy="229320"/>
              </a:xfrm>
              <a:prstGeom prst="bentConnector2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116" name=""/>
              <p:cNvCxnSpPr>
                <a:stCxn id="104" idx="3"/>
                <a:endCxn id="106" idx="3"/>
              </p:cNvCxnSpPr>
              <p:nvPr/>
            </p:nvCxnSpPr>
            <p:spPr>
              <a:xfrm flipV="1">
                <a:off x="7315200" y="2399760"/>
                <a:ext cx="2160" cy="1143720"/>
              </a:xfrm>
              <a:prstGeom prst="bentConnector3">
                <a:avLst>
                  <a:gd name="adj1" fmla="val 14400000"/>
                </a:avLst>
              </a:prstGeom>
              <a:ln w="28440">
                <a:solidFill>
                  <a:srgbClr val="ff0000"/>
                </a:solidFill>
                <a:miter/>
              </a:ln>
            </p:spPr>
          </p:cxnSp>
        </p:grpSp>
      </p:grpSp>
      <p:sp>
        <p:nvSpPr>
          <p:cNvPr id="117" name=""/>
          <p:cNvSpPr/>
          <p:nvPr/>
        </p:nvSpPr>
        <p:spPr>
          <a:xfrm>
            <a:off x="4650120" y="3886200"/>
            <a:ext cx="403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&gt;20 Mio Rechner im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257120" y="1668960"/>
            <a:ext cx="6287040" cy="1873800"/>
            <a:chOff x="1257120" y="1668960"/>
            <a:chExt cx="6287040" cy="1873800"/>
          </a:xfrm>
        </p:grpSpPr>
        <p:cxnSp>
          <p:nvCxnSpPr>
            <p:cNvPr id="119" name=""/>
            <p:cNvCxnSpPr>
              <a:stCxn id="96" idx="0"/>
              <a:endCxn id="94" idx="0"/>
            </p:cNvCxnSpPr>
            <p:nvPr/>
          </p:nvCxnSpPr>
          <p:spPr>
            <a:xfrm flipH="1" rot="16200000">
              <a:off x="1751400" y="1485720"/>
              <a:ext cx="2520" cy="99108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"/>
            <p:cNvCxnSpPr>
              <a:stCxn id="94" idx="0"/>
              <a:endCxn id="95" idx="0"/>
            </p:cNvCxnSpPr>
            <p:nvPr/>
          </p:nvCxnSpPr>
          <p:spPr>
            <a:xfrm flipH="1" rot="16200000">
              <a:off x="2703960" y="1523520"/>
              <a:ext cx="2520" cy="915120"/>
            </a:xfrm>
            <a:prstGeom prst="curvedConnector5">
              <a:avLst>
                <a:gd name="adj1" fmla="val -14400000"/>
                <a:gd name="adj2" fmla="val 49980"/>
                <a:gd name="adj3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"/>
            <p:cNvCxnSpPr>
              <a:stCxn id="95" idx="0"/>
              <a:endCxn id="99" idx="0"/>
            </p:cNvCxnSpPr>
            <p:nvPr/>
          </p:nvCxnSpPr>
          <p:spPr>
            <a:xfrm flipH="1" rot="16200000">
              <a:off x="3732480" y="1409400"/>
              <a:ext cx="2520" cy="114372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"/>
            <p:cNvCxnSpPr>
              <a:stCxn id="99" idx="0"/>
              <a:endCxn id="100" idx="0"/>
            </p:cNvCxnSpPr>
            <p:nvPr/>
          </p:nvCxnSpPr>
          <p:spPr>
            <a:xfrm flipH="1" rot="16200000">
              <a:off x="4723200" y="1561680"/>
              <a:ext cx="2520" cy="83916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"/>
            <p:cNvCxnSpPr>
              <a:stCxn id="100" idx="0"/>
              <a:endCxn id="102" idx="0"/>
            </p:cNvCxnSpPr>
            <p:nvPr/>
          </p:nvCxnSpPr>
          <p:spPr>
            <a:xfrm flipH="1" rot="16200000">
              <a:off x="5485320" y="1638000"/>
              <a:ext cx="2520" cy="68652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"/>
            <p:cNvCxnSpPr>
              <a:stCxn id="102" idx="0"/>
              <a:endCxn id="106" idx="0"/>
            </p:cNvCxnSpPr>
            <p:nvPr/>
          </p:nvCxnSpPr>
          <p:spPr>
            <a:xfrm flipH="1" rot="16200000">
              <a:off x="6362640" y="1446480"/>
              <a:ext cx="229320" cy="1296000"/>
            </a:xfrm>
            <a:prstGeom prst="curvedConnector5">
              <a:avLst>
                <a:gd name="adj1" fmla="val -100000"/>
                <a:gd name="adj2" fmla="val 49986"/>
                <a:gd name="adj3" fmla="val -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"/>
            <p:cNvCxnSpPr>
              <a:stCxn id="106" idx="0"/>
              <a:endCxn id="104" idx="3"/>
            </p:cNvCxnSpPr>
            <p:nvPr/>
          </p:nvCxnSpPr>
          <p:spPr>
            <a:xfrm flipH="1" rot="16200000">
              <a:off x="6552720" y="2780280"/>
              <a:ext cx="1334520" cy="191160"/>
            </a:xfrm>
            <a:prstGeom prst="curvedConnector5">
              <a:avLst>
                <a:gd name="adj1" fmla="val -17134"/>
                <a:gd name="adj2" fmla="val 110000"/>
                <a:gd name="adj3" fmla="val -1713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undlagen Netzwerke - Olaf Schmi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09AA-F5CE-495A-B549-0BD568FE840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7A5D8-5A1F-4C89-B874-FF61D7049FC2}" type="datetime8">
              <a:rPr lang="en-US"/>
              <a:t>07/30/26 04: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Lokale Netz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um, Fl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bäude, Cam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Orga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wal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Ty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e Kompon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toko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s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tro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undlagen Netzwerke - Olaf Schmid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506C-D449-4874-9FE4-1AE2003A5DA5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31DFD-AC03-431B-8C0B-11203BA1A2A1}" type="datetime8">
              <a:rPr lang="en-US"/>
              <a:t>07/30/26 04: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5T21:26:20Z</dcterms:created>
  <dc:creator>Olaf Schmidt</dc:creator>
  <dc:description/>
  <dc:language>en-US</dc:language>
  <cp:lastModifiedBy>Olaf Schmidt</cp:lastModifiedBy>
  <cp:lastPrinted>1999-05-27T10:34:59Z</cp:lastPrinted>
  <dcterms:modified xsi:type="dcterms:W3CDTF">1999-05-27T10:43:26Z</dcterms:modified>
  <cp:revision>21</cp:revision>
  <dc:subject/>
  <dc:title>Die Technik des Internet</dc:title>
</cp:coreProperties>
</file>